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98D-59F0-467C-903D-3D6811FC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6B8-0571-4861-9AD4-1245B0A1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978-B202-46F2-8B24-896B2182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AF0-99E2-43B1-9EE5-135EE05C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C25-F6A1-43A8-A257-5424F006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2D1-EDA1-4C69-AAA7-4C60D231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4AE-9319-457D-AC53-95A2A6CF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2AA-C2CC-447D-9386-B1CFB8B3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DE20-6DE6-4149-A61B-426824E8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1F6-DFB0-4D6A-B104-6607333A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AB67-31FB-4114-A5C2-53416A51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571-C20D-4D99-849B-9D1795AE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86D9-2C1F-41F4-B67E-CA87FAA63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D47-046A-44A7-A3A4-94AAB0C8C7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ation Laws and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on laws are the most important and fundamental laws that are used in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nge = increases – decre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.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mplies changes with time (transient). If the change is nonexistent (steady-state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. 1.1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creases =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95B-A2BE-4114-9A2E-89E58ADAED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419640" y="4976640"/>
            <a:ext cx="248256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58920" y="907920"/>
            <a:ext cx="824544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teady-state incompressible fluid flow in pi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in = Flow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+ 80 = 120 + Flo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32000" y="0"/>
            <a:ext cx="7524720" cy="2852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16720" y="29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ig 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8300-D71C-4B30-B788-EA5B0CAEC69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297000"/>
            <a:ext cx="255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Refer to Table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B3A-A1A7-40DE-8B06-AF88AC2E29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2000" y="367920"/>
            <a:ext cx="7772400" cy="16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al Modeling and Engineering Problem solving</a:t>
            </a:r>
            <a:br>
              <a:rPr sz="4000"/>
            </a:b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hap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2096640"/>
            <a:ext cx="64008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understanding of engineer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observation and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are great tools, however, without fundamental understanding of engineering problems, they will be usel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C58-D88F-463C-AB47-7D3CD3E740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771640" y="0"/>
            <a:ext cx="12700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g.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51280" y="0"/>
            <a:ext cx="3528720" cy="653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04E-818A-4348-B85D-288642A848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thematical model is represented as a functional relationship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epend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imes New Roman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aracteristic that usually reflects the state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imensions such as time and space along which the systems behavior is being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flect the system’s properties or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cing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xternal influences acting upo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32000" y="2097000"/>
            <a:ext cx="5256360" cy="1297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9492-2B1D-4108-B5BB-7178A98E79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aw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that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time rate change of momentum of a body is equal to the resulting force acting on 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l is formulat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 = m a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net force acting on the body 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mass of the object (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ts acceleration (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BCF-80FB-4DF6-97B4-05996FBDBC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tion of Newton’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w has several characteristics that are typical of mathematical models of the physical wor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describes a natural process or system in mathematical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presents an idealization and simplification of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, it yields reproducible results, consequently, can be used for predictive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0DD-9469-4ED0-8D51-4FC02B7C0ED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4920" y="728640"/>
            <a:ext cx="8209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athematical models of physical phenomena may be much more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models may not be solved exactly or require more sophisticated mathematical techniques than simple algebra for thei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, modeling of a falling parachut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80000" y="4834080"/>
            <a:ext cx="814320" cy="99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F50-0B61-4C34-9DDD-B157B6AF69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166920" y="765000"/>
                <a:ext cx="2305080" cy="460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DB3-5207-49BB-B320-5CF928683F6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4920" y="1591920"/>
            <a:ext cx="78231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differential equation and is written in terms of the differential rate of change dv/dt of the variable that we are interested in predic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arachutist is initially at rest (v=0 at t=0), using calcul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40000" y="189000"/>
                <a:ext cx="26636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655640" y="4653000"/>
                <a:ext cx="4038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 flipV="1">
            <a:off x="5400720" y="4724280"/>
            <a:ext cx="755640" cy="5400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12000" y="4545000"/>
            <a:ext cx="23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In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50920" y="5408280"/>
            <a:ext cx="576360" cy="468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0536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Dependent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003640" y="5445000"/>
            <a:ext cx="828720" cy="573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32360" y="5805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0000" y="4761000"/>
            <a:ext cx="504720" cy="64764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51280" y="5408640"/>
            <a:ext cx="0" cy="792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8360" y="5985000"/>
            <a:ext cx="18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rcing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FEC-D020-4A2B-AAFA-9181A062258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22:01:42Z</dcterms:created>
  <dc:creator>YURTTAS</dc:creator>
  <dc:description/>
  <dc:language>en-US</dc:language>
  <cp:lastModifiedBy>baga0122</cp:lastModifiedBy>
  <dcterms:modified xsi:type="dcterms:W3CDTF">2006-06-05T15:06:03Z</dcterms:modified>
  <cp:revision>24</cp:revision>
  <dc:subject/>
  <dc:title>Mathematical Modeling and Engineering Problem solving</dc:title>
</cp:coreProperties>
</file>