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1A3-ABAE-4567-84FF-5999124A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8A0-0A23-43C9-863B-9580F681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4B3-46D8-49EC-A3AA-971C1D2B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F93-4757-4EE2-A65C-1E83456E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943-5A69-4A6E-9DE8-8F96D4F1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8DB-64BC-43DA-A8BC-E3F56443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157-11A3-4059-8B86-3E4F89AC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7A0-3718-4F2D-AEE8-69D0CED9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CB5-C63F-4698-8540-74B863B4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84D-0475-4C71-B880-708650C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700-FC42-4311-97F6-2DC060DE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E37-52D2-4339-9981-8D65C17D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A527-AB85-463A-898D-276E125B9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3A9-1014-404C-A721-3BCCB86E5F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ation Laws and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laws are the most important and fundamental laws that are used in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nge = increases – decre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mplies changes with time (transient). If the change is nonexistent (steady-state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. 1.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creases =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A6D-13D7-4C0B-A6E0-41E26B4CC0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19640" y="4976640"/>
            <a:ext cx="24825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58920" y="907920"/>
            <a:ext cx="824544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teady-state incompressible fluid flow in pi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in = Flow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+ 80 = 120 + Flo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32000" y="0"/>
            <a:ext cx="7524720" cy="2852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6720" y="29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ig 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504-F4E1-4B8C-8C2A-623FF4D807F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297000"/>
            <a:ext cx="255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fer to Table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170-444D-448C-8CBE-746D642051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2000" y="367920"/>
            <a:ext cx="7772400" cy="16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al Modeling and Engineering Problem solving</a:t>
            </a:r>
            <a:br>
              <a:rPr sz="40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2096640"/>
            <a:ext cx="64008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understanding of engineer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observation and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are great tools, however, without fundamental understanding of engineering problems, they will be usel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09E-94B0-446C-9EA9-02D001EBE9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771640" y="0"/>
            <a:ext cx="12700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g.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51280" y="0"/>
            <a:ext cx="3528720" cy="653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FC5-F030-4087-977F-A873B2271A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hematical model is represented as a functional relationship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epend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aracteristic that usually reflects the state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imensions such as time and space along which the systems behavior is being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flect the system’s properties or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cing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xternal influences acting upo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2097000"/>
            <a:ext cx="5256360" cy="1297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857-3EC8-454A-85BB-AF875A6C2B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w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that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time rate change of momentum of a body is equal to the resulting force acting on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l is formulat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 = m a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net force acting on the body 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mass of the object (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ts acceleration (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D26-EA56-40F2-BADF-2FDEA012F7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tion of Newton’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w has several characteristics that are typical of mathematical models of the physical wor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escribes a natural process or system in mathematical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presents an idealization and simplification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it yields reproducible results, consequently, can be used for predictive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156-698E-445F-869E-127698BBB1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4920" y="728640"/>
            <a:ext cx="820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athematical models of physical phenomena may be much more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models may not be solved exactly or require more sophisticated mathematical techniques than simple algebra for thei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, modeling of a falling parachut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80000" y="4834080"/>
            <a:ext cx="814320" cy="99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1C4-0904-4327-A6FC-7582B450615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166920" y="765000"/>
                <a:ext cx="2305080" cy="460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1EF-DCA3-4A46-ACF0-CDD22A85BE4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1591920"/>
            <a:ext cx="78231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differential equation and is written in terms of the differential rate of change dv/dt of the variable that we are interested in predic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arachutist is initially at rest (v=0 at t=0), using calcul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40000" y="189000"/>
                <a:ext cx="26636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55640" y="4653000"/>
                <a:ext cx="4038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5400720" y="4724280"/>
            <a:ext cx="755640" cy="5400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4545000"/>
            <a:ext cx="23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50920" y="5408280"/>
            <a:ext cx="576360" cy="468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05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003640" y="5445000"/>
            <a:ext cx="828720" cy="573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32360" y="5805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0000" y="4761000"/>
            <a:ext cx="504720" cy="64764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51280" y="5408640"/>
            <a:ext cx="0" cy="79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8360" y="598500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rcing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DB6-10B9-43CA-A0B6-CEF9AC336EB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22:01:42Z</dcterms:created>
  <dc:creator>YURTTAS</dc:creator>
  <dc:description/>
  <dc:language>en-US</dc:language>
  <cp:lastModifiedBy>baga0122</cp:lastModifiedBy>
  <dcterms:modified xsi:type="dcterms:W3CDTF">2006-06-05T15:06:03Z</dcterms:modified>
  <cp:revision>24</cp:revision>
  <dc:subject/>
  <dc:title>Mathematical Modeling and Engineering Problem solving</dc:title>
</cp:coreProperties>
</file>