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A45-5983-4F70-A2BF-9E72F510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Fig. 5.1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A5E-48B1-4816-8FCB-46B5E1FF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75B-BF36-41D0-85C6-6627FEA1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BEF-1B01-40B1-AAD0-54AF5EB4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A07-D036-4E6B-AA56-80F7062F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6B7-8E80-4682-BAAE-5F84B3E1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13A-BACF-40C7-974F-2314D2C6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D2A-B91D-466F-A19B-0549D7B9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ACD-4137-40B3-B517-F13FD3A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7ED-E1C2-4ED1-9C69-22680723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774-3929-4457-874D-E252FCA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703-1A72-4563-B212-83464DB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EAF-6BFC-4504-A772-8925BB0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2F14-26CE-4999-9FB2-3DD053BD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BF9-C519-4F72-8EB8-0A99287235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gure 5.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1052640"/>
            <a:ext cx="8101080" cy="51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0FC-98E6-4D89-A013-25B0EF99CD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ind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iterations required to attain an absolute error can be computed a pri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and b that bound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count is taken o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closer to zero, it is likely that root is closer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382-D5B7-49FA-BA5B-F21821C45A6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Iterations will It T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the first Interv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b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1 it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2 it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k it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08000" y="5084640"/>
                <a:ext cx="40388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092-A4D4-4F09-B5FF-B20366BFC8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bsolute magnitude of the erro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, how many iterations will you have to do to get the required accuracy in the s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79640" y="1808280"/>
                <a:ext cx="1981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71640" y="4653000"/>
                <a:ext cx="5475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k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1DB-C81D-48D7-B767-950DC0A063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alse-Position Metho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gula-Fal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233000"/>
            <a:ext cx="29163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real root is bounded by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f(x)=0, then we can approximate the solution by doing a linear interpolation between the points 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 and 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 to find th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such that l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0, l(x) is the linear approximation of f(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= &gt;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. 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84720" y="1413000"/>
            <a:ext cx="5472000" cy="48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BC7-D937-4B38-BD2E-8D6C258969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72468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air of values of x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0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value of the root from the following formul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Refer to Box 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valuate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6000" y="3465360"/>
                <a:ext cx="2505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894-0841-46F4-984D-1264EC218B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new point to replace one of the original points, keeping the two points on opposite sides of the x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0 th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th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=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 then you have found the root and need go no fur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9A8-2A9B-4AB2-8199-122738B07E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if the new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lose enough for convergence to be declared. If they are not go back to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onverges for a single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ec.5.3.1, Pitfalls of the False-Posi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ways check by substituting estimated root in the original equation to determine whether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B4F-1612-4355-A094-2BFF0B5DAB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92000" y="367920"/>
            <a:ext cx="7772400" cy="146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s of Equations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2096640"/>
            <a:ext cx="6400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673360"/>
                <a:ext cx="52056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∓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98480" y="4735440"/>
                <a:ext cx="53150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BDD-D5AC-43D8-AB3E-446AF960FA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1640" y="866160"/>
            <a:ext cx="8228880" cy="4214520"/>
            <a:chOff x="431640" y="866160"/>
            <a:chExt cx="8228880" cy="4214520"/>
          </a:xfrm>
        </p:grpSpPr>
        <p:cxnSp>
          <p:nvCxnSpPr>
            <p:cNvPr id="57" name="_s6164"/>
            <p:cNvCxnSpPr>
              <a:stCxn id="58" idx="0"/>
              <a:endCxn id="59" idx="2"/>
            </p:cNvCxnSpPr>
            <p:nvPr/>
          </p:nvCxnSpPr>
          <p:spPr>
            <a:xfrm flipV="1">
              <a:off x="7426080" y="317232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6162"/>
            <p:cNvCxnSpPr>
              <a:stCxn id="61" idx="0"/>
              <a:endCxn id="62" idx="2"/>
            </p:cNvCxnSpPr>
            <p:nvPr/>
          </p:nvCxnSpPr>
          <p:spPr>
            <a:xfrm flipV="1">
              <a:off x="1665360" y="317232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0"/>
            <p:cNvCxnSpPr>
              <a:stCxn id="59" idx="0"/>
              <a:endCxn id="64" idx="2"/>
            </p:cNvCxnSpPr>
            <p:nvPr/>
          </p:nvCxnSpPr>
          <p:spPr>
            <a:xfrm flipV="1" rot="16200000">
              <a:off x="5754600" y="578520"/>
              <a:ext cx="462960" cy="2880720"/>
            </a:xfrm>
            <a:prstGeom prst="bentConnector3">
              <a:avLst>
                <a:gd name="adj1" fmla="val 246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51"/>
            <p:cNvCxnSpPr>
              <a:stCxn id="66" idx="0"/>
              <a:endCxn id="64" idx="2"/>
            </p:cNvCxnSpPr>
            <p:nvPr/>
          </p:nvCxnSpPr>
          <p:spPr>
            <a:xfrm flipV="1">
              <a:off x="4545720" y="178776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6152"/>
            <p:cNvCxnSpPr>
              <a:stCxn id="62" idx="0"/>
              <a:endCxn id="64" idx="2"/>
            </p:cNvCxnSpPr>
            <p:nvPr/>
          </p:nvCxnSpPr>
          <p:spPr>
            <a:xfrm flipH="1" flipV="1" rot="5400000">
              <a:off x="2874240" y="578880"/>
              <a:ext cx="462960" cy="2880720"/>
            </a:xfrm>
            <a:prstGeom prst="bentConnector3">
              <a:avLst>
                <a:gd name="adj1" fmla="val 246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6153"/>
            <p:cNvSpPr/>
            <p:nvPr/>
          </p:nvSpPr>
          <p:spPr>
            <a:xfrm>
              <a:off x="3311640" y="86616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nlinear Equ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l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4"/>
            <p:cNvSpPr/>
            <p:nvPr/>
          </p:nvSpPr>
          <p:spPr>
            <a:xfrm>
              <a:off x="43164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rac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55"/>
            <p:cNvSpPr/>
            <p:nvPr/>
          </p:nvSpPr>
          <p:spPr>
            <a:xfrm>
              <a:off x="331164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Graphic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6"/>
            <p:cNvSpPr/>
            <p:nvPr/>
          </p:nvSpPr>
          <p:spPr>
            <a:xfrm>
              <a:off x="619200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Open Method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1"/>
            <p:cNvSpPr/>
            <p:nvPr/>
          </p:nvSpPr>
          <p:spPr>
            <a:xfrm>
              <a:off x="431640" y="3635280"/>
              <a:ext cx="2468520" cy="1445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se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alse Posit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egula-Falsi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3"/>
            <p:cNvSpPr/>
            <p:nvPr/>
          </p:nvSpPr>
          <p:spPr>
            <a:xfrm>
              <a:off x="6192000" y="3635280"/>
              <a:ext cx="2468520" cy="1445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ewton Raphs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eca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16360" y="5084640"/>
            <a:ext cx="3349440" cy="1123920"/>
          </a:xfrm>
          <a:custGeom>
            <a:avLst/>
            <a:gdLst>
              <a:gd name="textAreaLeft" fmla="*/ 0 w 3349440"/>
              <a:gd name="textAreaRight" fmla="*/ 3349800 w 3349440"/>
              <a:gd name="textAreaTop" fmla="*/ 145440 h 1123920"/>
              <a:gd name="textAreaBottom" fmla="*/ 9784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4723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4DE-8F9E-4F5D-8C7B-129E55D1D0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5160" cy="141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cketing Method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, two point methods for finding roots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nitial guesses for the root are required. These guesses must “bracket” or be on either side of the 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= &gt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.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root of a real and continuous function, f(x)=0, is bounded by values 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.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0.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unction changes sign on opposite sides of the 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40360" y="1521000"/>
            <a:ext cx="3852720" cy="51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D52-49E5-4124-861D-2FE9B343A9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3280" y="-360"/>
            <a:ext cx="169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gure 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00560" y="0"/>
            <a:ext cx="2647800" cy="609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20000" y="584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nswer (No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96000" y="1881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 case (one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96000" y="328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s!!  (two root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941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roots( Might work for a whil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12B-8201-4706-B8F2-62A302A21E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63640" y="-360"/>
            <a:ext cx="14860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2880000" cy="59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372360" y="1341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roots( Might work for a whil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4113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tinuous function. Need special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6C4-7FAB-4C16-A037-6030F97057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4038480" cy="286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6360" y="368280"/>
            <a:ext cx="30826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92720" y="3753000"/>
            <a:ext cx="3086280" cy="218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2000" y="15210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720" y="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6720" y="33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60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-MANY roots. What do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844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=sin 10x+cos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7BD-CBBB-4BFA-9A70-2AC5C6C19B6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sec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arbitrary equation of one variable, f(x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they bound the root of interest, check 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root by evaluating f[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2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p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]&lt;0, root lies in the lower interval,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 and go to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4E3-6C59-4D95-921F-1D9F23B826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]&gt;0, root lies in the upper interval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, go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]=0, then root i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 and term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p. Otherwise repeat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265800" y="2073240"/>
                <a:ext cx="220824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3887640" y="3681360"/>
            <a:ext cx="1692360" cy="395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1773360"/>
            <a:ext cx="533160" cy="3809880"/>
          </a:xfrm>
          <a:custGeom>
            <a:avLst/>
            <a:gdLst>
              <a:gd name="textAreaLeft" fmla="*/ 340560 w 533160"/>
              <a:gd name="textAreaRight" fmla="*/ 533520 w 5331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09080" y="1736640"/>
            <a:ext cx="684000" cy="3851280"/>
          </a:xfrm>
          <a:custGeom>
            <a:avLst/>
            <a:gdLst>
              <a:gd name="textAreaLeft" fmla="*/ 0 w 684000"/>
              <a:gd name="textAreaRight" fmla="*/ 246960 w 684000"/>
              <a:gd name="textAreaTop" fmla="*/ 100440 h 3851280"/>
              <a:gd name="textAreaBottom" fmla="*/ 3750840 h 38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1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99F-D0F1-4BE8-8934-C1C8047C33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6:22:09Z</dcterms:created>
  <dc:creator>YURTTAS</dc:creator>
  <dc:description/>
  <dc:language>en-US</dc:language>
  <cp:lastModifiedBy>baga0122</cp:lastModifiedBy>
  <dcterms:modified xsi:type="dcterms:W3CDTF">2006-06-07T02:18:08Z</dcterms:modified>
  <cp:revision>33</cp:revision>
  <dc:subject/>
  <dc:title>Solutions of Nonlinear Equations and Systems of Equations</dc:title>
</cp:coreProperties>
</file>