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6B89-3481-46B5-AD23-9899F4F3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Fig. 5.1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A8A-0A51-43DE-A67B-71E78F89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053-4EF2-4327-B478-12682A5F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AE8-AD77-4BA3-B07A-36381A2F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582-B51C-4C8D-8873-FD2825C9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4C5-94FB-4C01-8328-87A0FF96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EF2-4AD7-465F-B82F-9FA03859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8BC6-DC91-4538-B4B1-762362D6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0D4-1453-44F4-82B5-E3A62825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5F9-1794-43C2-B53A-0AF3126C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A0B-9D8D-4E09-B02B-951C6843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F7F-EFD1-410C-82F8-EE981997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AF1-1022-47D0-8EDE-57E152B8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1EEC-67FC-4BBF-8319-DA469113A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6F9-E3E5-40ED-B684-972F1B03C1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gure 5.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1052640"/>
            <a:ext cx="8101080" cy="51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546-55A1-4257-B956-04D21B6A35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ion of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ind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iterations required to attain an absolute error can be computed a prior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a and b that bound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ccount is taken o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closer to zero, it is likely that root is closer t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C0D-D401-4AAE-BBFD-0487D04FEB0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Iterations will It T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 of the first Interv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b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1 it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2 it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k it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08000" y="5084640"/>
                <a:ext cx="40388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748B-DF2C-454B-96B5-2EE06F8492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absolute magnitude of the error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2, how many iterations will you have to do to get the required accuracy in the s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79640" y="1808280"/>
                <a:ext cx="19810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971640" y="4653000"/>
                <a:ext cx="54752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k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72E-24D2-47F8-BF78-06DE89D19D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alse-Position Method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gula-Fal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233000"/>
            <a:ext cx="291636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real root is bounded by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f(x)=0, then we can approximate the solution by doing a linear interpolation between the points [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 and [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 to find the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such that l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0, l(x) is the linear approximation of f(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== &gt;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. 5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384720" y="1413000"/>
            <a:ext cx="5472000" cy="48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A51-F18E-414E-8D1D-6501B3D8A2F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05000"/>
            <a:ext cx="72468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pair of values of x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ch that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0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gt;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 the value of the root from the following formula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Refer to Box 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evaluate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116000" y="3465360"/>
                <a:ext cx="25052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956-75A9-43BB-81EB-0AF5BDB7C1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new point to replace one of the original points, keeping the two points on opposite sides of the x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lt;0 th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= 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&gt;0 then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= &gt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=0 then you have found the root and need go no furth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C09-1F5C-4A44-9CEB-FE14E780E6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if the new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lose enough for convergence to be declared. If they are not go back to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onverges for a single ro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Sec.5.3.1, Pitfalls of the False-Position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ways check by substituting estimated root in the original equation to determine whether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401-BE54-45C3-A0B7-A77369133D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92000" y="367920"/>
            <a:ext cx="7772400" cy="146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ots of Equations</a:t>
            </a:r>
            <a:br>
              <a:rPr sz="44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2096640"/>
            <a:ext cx="640080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2673360"/>
                <a:ext cx="52056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∓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98480" y="4735440"/>
                <a:ext cx="531504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2FE-A8DD-4E73-BE69-A58C09DFA9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1640" y="866160"/>
            <a:ext cx="8228880" cy="4214520"/>
            <a:chOff x="431640" y="866160"/>
            <a:chExt cx="8228880" cy="4214520"/>
          </a:xfrm>
        </p:grpSpPr>
        <p:cxnSp>
          <p:nvCxnSpPr>
            <p:cNvPr id="57" name="_s6164"/>
            <p:cNvCxnSpPr>
              <a:stCxn id="58" idx="0"/>
              <a:endCxn id="59" idx="2"/>
            </p:cNvCxnSpPr>
            <p:nvPr/>
          </p:nvCxnSpPr>
          <p:spPr>
            <a:xfrm flipV="1">
              <a:off x="7426080" y="3172320"/>
              <a:ext cx="3240" cy="46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6162"/>
            <p:cNvCxnSpPr>
              <a:stCxn id="61" idx="0"/>
              <a:endCxn id="62" idx="2"/>
            </p:cNvCxnSpPr>
            <p:nvPr/>
          </p:nvCxnSpPr>
          <p:spPr>
            <a:xfrm flipV="1">
              <a:off x="1665360" y="3172320"/>
              <a:ext cx="3240" cy="46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6150"/>
            <p:cNvCxnSpPr>
              <a:stCxn id="59" idx="0"/>
              <a:endCxn id="64" idx="2"/>
            </p:cNvCxnSpPr>
            <p:nvPr/>
          </p:nvCxnSpPr>
          <p:spPr>
            <a:xfrm flipV="1" rot="16200000">
              <a:off x="5754600" y="578520"/>
              <a:ext cx="462960" cy="2880720"/>
            </a:xfrm>
            <a:prstGeom prst="bentConnector3">
              <a:avLst>
                <a:gd name="adj1" fmla="val 246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6151"/>
            <p:cNvCxnSpPr>
              <a:stCxn id="66" idx="0"/>
              <a:endCxn id="64" idx="2"/>
            </p:cNvCxnSpPr>
            <p:nvPr/>
          </p:nvCxnSpPr>
          <p:spPr>
            <a:xfrm flipV="1">
              <a:off x="4545720" y="1787760"/>
              <a:ext cx="3240" cy="46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6152"/>
            <p:cNvCxnSpPr>
              <a:stCxn id="62" idx="0"/>
              <a:endCxn id="64" idx="2"/>
            </p:cNvCxnSpPr>
            <p:nvPr/>
          </p:nvCxnSpPr>
          <p:spPr>
            <a:xfrm flipH="1" flipV="1" rot="5400000">
              <a:off x="2874240" y="578880"/>
              <a:ext cx="462960" cy="2880720"/>
            </a:xfrm>
            <a:prstGeom prst="bentConnector3">
              <a:avLst>
                <a:gd name="adj1" fmla="val 246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6153"/>
            <p:cNvSpPr/>
            <p:nvPr/>
          </p:nvSpPr>
          <p:spPr>
            <a:xfrm>
              <a:off x="3311640" y="86616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onlinear Equ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l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6154"/>
            <p:cNvSpPr/>
            <p:nvPr/>
          </p:nvSpPr>
          <p:spPr>
            <a:xfrm>
              <a:off x="431640" y="225072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Bracket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6155"/>
            <p:cNvSpPr/>
            <p:nvPr/>
          </p:nvSpPr>
          <p:spPr>
            <a:xfrm>
              <a:off x="3311640" y="225072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Graphic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56"/>
            <p:cNvSpPr/>
            <p:nvPr/>
          </p:nvSpPr>
          <p:spPr>
            <a:xfrm>
              <a:off x="6192000" y="2250720"/>
              <a:ext cx="2468520" cy="9216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</a:rPr>
                <a:t>Open Method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6161"/>
            <p:cNvSpPr/>
            <p:nvPr/>
          </p:nvSpPr>
          <p:spPr>
            <a:xfrm>
              <a:off x="431640" y="3635280"/>
              <a:ext cx="2468520" cy="1445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se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alse Position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Regula-Falsi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63"/>
            <p:cNvSpPr/>
            <p:nvPr/>
          </p:nvSpPr>
          <p:spPr>
            <a:xfrm>
              <a:off x="6192000" y="3635280"/>
              <a:ext cx="2468520" cy="1445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ewton Raphs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eca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916360" y="5084640"/>
            <a:ext cx="3349440" cy="1123920"/>
          </a:xfrm>
          <a:custGeom>
            <a:avLst/>
            <a:gdLst>
              <a:gd name="textAreaLeft" fmla="*/ 0 w 3349440"/>
              <a:gd name="textAreaRight" fmla="*/ 3349800 w 3349440"/>
              <a:gd name="textAreaTop" fmla="*/ 145440 h 1123920"/>
              <a:gd name="textAreaBottom" fmla="*/ 97848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472392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Iter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60A-C268-4966-B364-6986BB85F3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5160" cy="1417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acketing Method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, two point methods for finding roots)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initial guesses for the root are required. These guesses must “bracket” or be on either side of the r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== &gt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. 5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root of a real and continuous function, f(x)=0, is bounded by values x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.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&lt;0.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unction changes sign on opposite sides of the ro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040360" y="1521000"/>
            <a:ext cx="3852720" cy="51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6C1-8757-4A09-89E0-A02F6B0F42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3280" y="-360"/>
            <a:ext cx="169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gure 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00560" y="0"/>
            <a:ext cx="2647800" cy="609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20000" y="584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answer (No r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96000" y="188136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e case (one r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696000" y="3284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s!!  (two root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494172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roots( Might work for a whil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02BF-F41E-4708-9415-0C9DCCE77E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763640" y="-360"/>
            <a:ext cx="14860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Figure 5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2880000" cy="594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372360" y="13413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roots( Might work for a while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16720" y="411336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ntinuous function. Need special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941-5A19-4981-8752-422B719806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2241720"/>
            <a:ext cx="4038480" cy="2862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56360" y="368280"/>
            <a:ext cx="308268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92720" y="3753000"/>
            <a:ext cx="3086280" cy="218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2000" y="15210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ure 5.4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56720" y="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ure 5.4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6720" y="339264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igure 5.4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60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-MANY roots. What do we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1844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=sin 10x+cos 3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799-CA61-4E5D-87A3-88215F221DF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section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686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arbitrary equation of one variable, f(x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they bound the root of interest, check if 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f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the root by evaluating f[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/2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p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f[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]&lt;0, root lies in the lower interval,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 and go to ste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B81-132F-427F-8440-C2B4EB25BD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f[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]&gt;0, root lies in the upper interval, then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[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, go to ste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f[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]=0, then root is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 and termi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op. Otherwise repeat th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265800" y="2073240"/>
                <a:ext cx="2208240" cy="32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≺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  <m:r>
                          <m:t xml:space="preserve">≺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3887640" y="3681360"/>
            <a:ext cx="1692360" cy="3952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1773360"/>
            <a:ext cx="533160" cy="3809880"/>
          </a:xfrm>
          <a:custGeom>
            <a:avLst/>
            <a:gdLst>
              <a:gd name="textAreaLeft" fmla="*/ 340560 w 533160"/>
              <a:gd name="textAreaRight" fmla="*/ 533520 w 53316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09080" y="1736640"/>
            <a:ext cx="684000" cy="3851280"/>
          </a:xfrm>
          <a:custGeom>
            <a:avLst/>
            <a:gdLst>
              <a:gd name="textAreaLeft" fmla="*/ 0 w 684000"/>
              <a:gd name="textAreaRight" fmla="*/ 246960 w 684000"/>
              <a:gd name="textAreaTop" fmla="*/ 100440 h 3851280"/>
              <a:gd name="textAreaBottom" fmla="*/ 3750840 h 38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411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BCF8-FE8D-4A4C-ADE2-24EABFFFEBF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6:22:09Z</dcterms:created>
  <dc:creator>YURTTAS</dc:creator>
  <dc:description/>
  <dc:language>en-US</dc:language>
  <cp:lastModifiedBy>baga0122</cp:lastModifiedBy>
  <dcterms:modified xsi:type="dcterms:W3CDTF">2006-06-07T02:18:08Z</dcterms:modified>
  <cp:revision>33</cp:revision>
  <dc:subject/>
  <dc:title>Solutions of Nonlinear Equations and Systems of Equations</dc:title>
</cp:coreProperties>
</file>