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8AF-2D13-4D47-99BA-34C7E81D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880-997A-4914-B830-D8A30CF5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C11-66FF-421E-B210-5BA40714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D0A-F1DF-413F-95BE-65E275F6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F56-018B-434C-8D14-20625B40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1C9-DC88-4356-AB80-A730F9B3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568-B825-41BB-88FF-5B6C123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E9D-A6D1-457A-8B50-9DDC5A8E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FB2-6478-49C0-8B33-C1418AF3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700-66CA-4E03-8A5C-3E04E9BF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CFA-9B3A-48BD-AA69-3286F43B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799-CC4C-449B-AEE5-2D7A8257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F76-5C8D-48CB-A270-0CA0BD0E8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1BF-8F01-4C18-9B37-026261EDEB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58920" y="512280"/>
            <a:ext cx="403848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wo initial estimates of x , e.g,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However, because f(x) is not required to change signs between estimates, it is not classified as a “bracketing”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ant method has the same properties as Newton’s method. Convergence is not guaranteed for al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35640" y="512640"/>
            <a:ext cx="4608360" cy="3961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9640" y="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. 6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8CB-1E68-4DC9-8333-578CEA5E92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200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. 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54A-C8C1-429E-B1D8-3DAD17A8A32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Fixed-point It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934920" y="2708280"/>
                <a:ext cx="680580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give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 2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611280" y="4076640"/>
            <a:ext cx="77058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cketing methods are “convergen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-point methods may sometime “diverge”, depending on the stating point (initial guess) and how the function beh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360" y="1521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rrange the function so that x is on the left side of the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91D-DE36-44B6-81E3-FDC573C7A1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92000" y="1592280"/>
                <a:ext cx="4427640" cy="43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≻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t xml:space="preserve">⋮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719280" y="800280"/>
            <a:ext cx="78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A51-AD44-4106-83AB-8D7B8F0BCF4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g(x) can be expressed as a pair of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g(x) (component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them sepa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84720" y="1233360"/>
            <a:ext cx="3311640" cy="504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44000" y="72864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844-11B2-47CF-9B5A-CD5052AD91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-point iteration converges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71640" y="2313000"/>
                <a:ext cx="64450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≺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lope of the line 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68360" y="3500280"/>
            <a:ext cx="79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ethod converges, the error is roughly proportional to or less than the error of the previous step, therefore it is called “linearly converg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2FE-6AF8-4D9B-A6D3-BC7B88F648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ton-Raphs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widely used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Taylor series expan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00000" y="2744640"/>
                <a:ext cx="6443640" cy="35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OΔ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root is the value of 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hen 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rranging,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600360" y="5553000"/>
            <a:ext cx="363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on-Raphson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34920" y="5337000"/>
            <a:ext cx="24847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0" y="4761000"/>
            <a:ext cx="576360" cy="5410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236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563640" y="4689360"/>
            <a:ext cx="539640" cy="7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FB5-45E2-42EF-B3CD-D974BC6673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15640" y="1052640"/>
            <a:ext cx="4103640" cy="59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venient method for functions whose derivatives can be evaluated analytically. It may not be convenient for functions whose derivatives cannot be evaluated analy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92720" y="944640"/>
            <a:ext cx="4572000" cy="3671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9640" y="62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. 6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27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07B-E5D9-443B-A3C5-4582C37A47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64000" y="225360"/>
            <a:ext cx="4500360" cy="604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40000" y="1890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. 6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3C5-13B2-4CA1-AE55-8CD600149C6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ant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09928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light variation of Newton’s method for functions whose derivatives are difficult to evaluate. For these cases the derivative can be approximated by a backward finite divided dif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863640" y="3897360"/>
                <a:ext cx="7380360" cy="22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≃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8CF-F614-4317-BF48-CB3889BBDA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16:11:37Z</dcterms:created>
  <dc:creator>YURTTAS</dc:creator>
  <dc:description/>
  <dc:language>en-US</dc:language>
  <cp:lastModifiedBy>baga0122</cp:lastModifiedBy>
  <dcterms:modified xsi:type="dcterms:W3CDTF">2006-06-08T23:24:32Z</dcterms:modified>
  <cp:revision>32</cp:revision>
  <dc:subject/>
  <dc:title>Open Methods Chapter 6</dc:title>
</cp:coreProperties>
</file>