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4FF-F1D2-4319-86A2-04F88DBC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69B-6B26-4699-91BB-259D2B6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D67-76E0-4F93-A706-8F990A3F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DD1-0C69-4E34-872D-F0450236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46A-D0FA-4C2A-939A-C11B4C4D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E18-5D87-4934-8889-BB90E0E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AF2-E89D-4FCD-8D9B-79BC7CD5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E8D-C32A-4485-B7D9-F578D46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00E-A549-46B1-A7A6-BDACDCE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73E-56C2-4C4D-9DAD-FCFD60E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F94-C687-415B-9D47-9F2FC53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CBC-C65C-4E60-89BC-DBEF48AB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0E3A-7A09-491C-A297-D40112C90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E93-DEF9-4F41-97D6-15BBB2D469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8920" y="512280"/>
            <a:ext cx="403848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wo initial estimates of x , e.g,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However, because f(x) is not required to change signs between estimates, it is not classified as a “bracketing”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ant method has the same properties as Newton’s method. Convergence is not guaranteed for al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35640" y="512640"/>
            <a:ext cx="4608360" cy="396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9640" y="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D1A-2BF7-4E3F-B5DB-3443909854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2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419-41ED-48BD-955E-08B6989478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ixed-point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34920" y="2708280"/>
                <a:ext cx="6805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give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 2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11280" y="4076640"/>
            <a:ext cx="7705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cketing methods are “convergen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-point methods may sometime “diverge”, depending on the stating point (initial guess) and how the function beh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360" y="1521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rrange the function so that x is on the left side of the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462-ABBB-402A-B06D-EC86DC63EC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92000" y="1592280"/>
                <a:ext cx="4427640" cy="43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≻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719280" y="80028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D1E-0885-48E1-8641-822C04336DF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g(x) can be expressed as a pair of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g(x) (component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them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4720" y="1233360"/>
            <a:ext cx="3311640" cy="504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44000" y="72864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76A-5AD7-4E4B-BA3F-CC0E51FCC4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point iteration converges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71640" y="2313000"/>
                <a:ext cx="6445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≺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lope of the line 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68360" y="3500280"/>
            <a:ext cx="79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thod converges, the error is roughly proportional to or less than the error of the previous step, therefore it is called “linearly converg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B4C-9C2C-4904-8F1C-68E64A2AAD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ton-Raphs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aylor series expa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0000" y="2744640"/>
                <a:ext cx="6443640" cy="35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OΔ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root is the value of 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hen 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rranging,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600360" y="5553000"/>
            <a:ext cx="363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-Raphson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34920" y="5337000"/>
            <a:ext cx="2484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4761000"/>
            <a:ext cx="576360" cy="541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63640" y="4689360"/>
            <a:ext cx="539640" cy="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F3F-5001-4B50-AB9F-0AAE5E465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15640" y="1052640"/>
            <a:ext cx="4103640" cy="59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venient method for functions whose derivatives can be evaluated analytically. It may not be convenient for functions whose derivatives cannot be evaluated analy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92720" y="944640"/>
            <a:ext cx="4572000" cy="367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9640" y="62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27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B05-3943-48F8-ACCB-6B08D64348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64000" y="225360"/>
            <a:ext cx="4500360" cy="604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0000" y="18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0B2-7C23-41E8-9D4E-AAEF1E45817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an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09928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ght variation of Newton’s method for functions whose derivatives are difficult to evaluate. For these cases the derivative can be approximated by a backward finite divided dif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63640" y="3897360"/>
                <a:ext cx="7380360" cy="22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337-714E-4270-8CBD-553A70D3AD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6:11:37Z</dcterms:created>
  <dc:creator>YURTTAS</dc:creator>
  <dc:description/>
  <dc:language>en-US</dc:language>
  <cp:lastModifiedBy>baga0122</cp:lastModifiedBy>
  <dcterms:modified xsi:type="dcterms:W3CDTF">2006-06-08T23:24:32Z</dcterms:modified>
  <cp:revision>32</cp:revision>
  <dc:subject/>
  <dc:title>Open Methods Chapter 6</dc:title>
</cp:coreProperties>
</file>