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28F-B513-4AD2-8A4F-87E61BB6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3E4F-DC7D-44AE-8868-F19A933E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F75-F611-45D6-9584-B3D280BC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491-2166-4DDE-B749-2D77BE49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C6C-C9DD-4171-AB8D-88C34C42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429-5C13-4AA6-9512-48B44DDC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5E1-6D66-4E29-8438-F0571D0D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1DE-970C-4023-8E7A-09B9E2C8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DFD-4117-404F-8DDB-8F7BA5EA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F03-CA8A-45BC-8DE5-E536962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06B-90AA-47DE-BE59-ED961C11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F36-0E75-4BDC-BC29-E18A6544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4FF-8421-41D8-B1B6-CD89A54B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02B-5D52-4A22-8193-6A4C96E51E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s of Polynomials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37628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ots of polynomials such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34920" y="1989000"/>
                <a:ext cx="5796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1280" y="2781360"/>
            <a:ext cx="7921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thes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order equation, there are n real or complex ro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dd, there is at least one real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mplex root exist in conjugate pairs (that is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=sqrt(-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292A-712D-4685-8F8C-CEC0191BFE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ntional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icacy of bracketing and open methods depends on whether the problem being solved involves complex roots. If only real roots exist, these methods could be used. How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good initial guesses complicates both the open and bracketing methods, also the open methods could be susceptible to diverg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methods have been developed to find the real and complex roots of polynomials – 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ler and Bairstow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E84-4CBE-4E2D-A120-FB013B4F7D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304640"/>
            <a:ext cx="82184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ler’s method obtains a root estimate by projecting a parabola to the x axis through three function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24000" y="2637000"/>
            <a:ext cx="6912000" cy="363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704000" y="2276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7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C63-F749-4660-AFDA-5B29F4820E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l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042920" y="4184640"/>
                <a:ext cx="7237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934920" y="1736640"/>
            <a:ext cx="69850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consists of deriving the coefficients of parabola that goes through the thre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Write the equation in a convenien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8FE-FFE4-4955-B751-F7780BF427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18352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bola should intersect the three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], 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], 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efficients of the polynomial can be estimated by substituting three points to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equations can be solved for three unknow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Since two of the terms in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 are zero, it can be immediately solved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=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84360" y="2205000"/>
                <a:ext cx="49323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47640" y="5192640"/>
                <a:ext cx="540072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1FD-9731-485F-85ED-B5D02A9375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4360" y="584280"/>
                <a:ext cx="6192720" cy="52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56360" y="2924280"/>
            <a:ext cx="287280" cy="1260360"/>
          </a:xfrm>
          <a:custGeom>
            <a:avLst/>
            <a:gdLst>
              <a:gd name="textAreaLeft" fmla="*/ 0 w 287280"/>
              <a:gd name="textAreaRight" fmla="*/ 103680 w 28728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321300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d for a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DB6-2FF1-4B8F-A3F9-74FC9B2D189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84280"/>
            <a:ext cx="818352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 can be found by applying an alternative form of quadratic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rror can be calcul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term yields two roots, the sign is chosen 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will result in a largest denominator, and will give root estimate that is closest to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71640" y="1449360"/>
                <a:ext cx="43560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71640" y="3249720"/>
                <a:ext cx="328140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6D4-2225-45CE-946F-BA6DE81114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termined, the process is repeated using the following 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ly real roots are being located, choose the two original points that are nearest the new root estimat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both real and complex roots are estimated, employ a sequential approach just like in secant metho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pla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DED-FE7E-4BB7-BB4D-D09C41A0AE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20:33:29Z</dcterms:created>
  <dc:creator>YURTTAS</dc:creator>
  <dc:description/>
  <dc:language>en-US</dc:language>
  <cp:lastModifiedBy>baga0122</cp:lastModifiedBy>
  <dcterms:modified xsi:type="dcterms:W3CDTF">2006-06-12T17:39:45Z</dcterms:modified>
  <cp:revision>27</cp:revision>
  <dc:subject/>
  <dc:title>Roots of Polynomials Chapter 7</dc:title>
</cp:coreProperties>
</file>