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86EF-7786-4256-882D-99C344CE5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EEA7-64F4-4CE0-98CA-3DC0ACC35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8FD9-62C2-4C32-ACE8-4A5D18B4C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BC4E-40C6-4952-A3A6-5405BBD18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3A55-FA57-48DA-98A2-03845D387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220B-E6D0-4339-99C2-6A2310C5B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EA5B-B3B0-46B2-A5C6-2502FB3B1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B462-6C89-42A3-A4DB-4E5A3C52D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D7A5-6D10-407B-A624-87890843B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33F6-D3DC-4F32-9ED1-B7A76E6D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1C18-DB7F-4206-9CAE-65871892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D8A0-CA6A-445B-B548-9AF3B6BF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BAE53-5BA4-49FE-A3A6-F86AE817D0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66900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 © 2006 The McGraw-Hill Companies, Inc.  Permission required for reproduction or displa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96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38080" y="2854440"/>
            <a:ext cx="754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hapter 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D3BC-F48F-4130-BB64-470D3681FF6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ots of Polynomials</a:t>
            </a:r>
            <a:br>
              <a:rPr sz="4000"/>
            </a:b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000" y="137628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oots of polynomials such 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934920" y="1989000"/>
                <a:ext cx="579600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…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611280" y="2781360"/>
            <a:ext cx="792144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 these ru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 order equation, there are n real or complex roo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odd, there is at least one real ro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complex root exist in conjugate pairs (that is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=sqrt(-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FFB2-5FC6-4BBD-93D9-97859A508FD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entional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fficacy of bracketing and open methods depends on whether the problem being solved involves complex roots. If only real roots exist, these methods could be used. How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ing good initial guesses complicates both the open and bracketing methods, also the open methods could be susceptible to diverg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methods have been developed to find the real and complex roots of polynomials – 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ler and Bairstow metho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32D2-11FF-48E6-8789-C87549F2347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ler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3640" y="1304640"/>
            <a:ext cx="821844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ler’s method obtains a root estimate by projecting a parabola to the x axis through three function val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24000" y="2637000"/>
            <a:ext cx="6912000" cy="36367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7704000" y="2276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Figure 7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5B0A-2626-43C4-AD40-AAB3C57EEC6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ler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042920" y="4184640"/>
                <a:ext cx="723744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934920" y="1736640"/>
            <a:ext cx="698508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ethod consists of deriving the coefficients of parabola that goes through the three poi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Write the equation in a convenient for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F134-0D88-4743-BD7D-FC75F3F4666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57000"/>
            <a:ext cx="8183520" cy="54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arabola should intersect the three point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[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 f(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], [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 f(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], [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 f(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]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coefficients of the polynomial can be estimated by substituting three points to g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equations can be solved for three unknowns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Since two of the terms in the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quation are zero, it can be immediately solved f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=f(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1584360" y="2205000"/>
                <a:ext cx="4932360" cy="16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1547640" y="5192640"/>
                <a:ext cx="5400720" cy="107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C5F0-0831-42EC-9775-7C99F834AC7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684360" y="584280"/>
                <a:ext cx="6192720" cy="52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-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-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a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b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a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/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6156360" y="2924280"/>
            <a:ext cx="287280" cy="1260360"/>
          </a:xfrm>
          <a:custGeom>
            <a:avLst/>
            <a:gdLst>
              <a:gd name="textAreaLeft" fmla="*/ 0 w 287280"/>
              <a:gd name="textAreaRight" fmla="*/ 103680 w 287280"/>
              <a:gd name="textAreaTop" fmla="*/ 32760 h 1260360"/>
              <a:gd name="textAreaBottom" fmla="*/ 1227600 h 12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659640" y="3213000"/>
            <a:ext cx="180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ed for a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F77C-D8CF-49C7-95D6-4DF24151D1FE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584280"/>
            <a:ext cx="8183520" cy="55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s can be found by applying an alternative form of quadratic formu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rror can be calculated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term yields two roots, the sign is chosen to agree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This will result in a largest denominator, and will give root estimate that is closest to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971640" y="1449360"/>
                <a:ext cx="4356000" cy="12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b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971640" y="3249720"/>
                <a:ext cx="3281400" cy="13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2D20-A845-4415-90EB-84B11EFD5F4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800280"/>
            <a:ext cx="8229600" cy="53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c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determined, the process is repeated using the following guideli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only real roots are being located, choose the two original points that are nearest the new root estimate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both real and complex roots are estimated, employ a sequential approach just like in secant method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repla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203B-72E4-47A3-8390-7DD248DE2D1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2T20:33:29Z</dcterms:created>
  <dc:creator>YURTTAS</dc:creator>
  <dc:description/>
  <dc:language>en-US</dc:language>
  <cp:lastModifiedBy>baga0122</cp:lastModifiedBy>
  <dcterms:modified xsi:type="dcterms:W3CDTF">2006-06-12T17:39:45Z</dcterms:modified>
  <cp:revision>27</cp:revision>
  <dc:subject/>
  <dc:title>Roots of Polynomials Chapter 7</dc:title>
</cp:coreProperties>
</file>