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22AF-6457-4051-87AB-D9F9F8BCF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24E7-5F6F-4F73-BDC7-EF1A6475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7ADB-BC3F-4C43-80AD-00D0EF501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C92A-63D1-4305-9EBF-360F0B1F4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638C-D8AB-460D-BBB8-90547A1E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981F-90C2-43BA-BC49-DE451893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1BCD-3FEC-4A4D-BB3B-E3E2C2BA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B8E9-6BF5-4800-B4FA-0B4EF13F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ED90-41FE-4BD8-81EF-5C994C53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6384-5FF5-4AA1-9706-487F3C04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FC61-F277-41CD-B90F-1D92EA34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AED0-4421-448C-852B-15CD4051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249E-2EDA-41DD-9159-88C751522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6900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he McGraw-Hill Companies, Inc. 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2854440"/>
            <a:ext cx="75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hapter 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E885-E68D-4643-9709-BF190D43110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58920" y="3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ing all matrices are square matrices, there is a number associated with each square matrix  A called the determinant, D, of A. (D=det (A)). If [A] is order 1, then [A] has one el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=[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=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square matrix of order 2,  A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terminant is D=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88000" y="3753000"/>
            <a:ext cx="1584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1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1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624720" y="3573360"/>
            <a:ext cx="1224000" cy="1548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89A4-EA9E-45E6-AB64-925B0DFD3F0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square matrix of order 3,  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in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n element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determinant of the matrix of order 2 by deleting row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colum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E583-E1A0-403D-BA05-52BDE67EAD0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863640" y="944640"/>
                <a:ext cx="4753080" cy="507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3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2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3</m:t>
                                    </m:r>
                                  </m:sub>
                                </m:sSub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1547640" y="1233360"/>
            <a:ext cx="1656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27280" y="1015920"/>
            <a:ext cx="0" cy="1657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E32B-FB47-44B7-B637-C6843FA7925B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31640" y="584280"/>
                <a:ext cx="540072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468360" y="267336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920" y="1916280"/>
            <a:ext cx="781200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ramer’s ru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resses the solution of a systems of linear equations in terms of ratios of determinants of the array of coefficients of the equations. For example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ould be computed a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240000" y="3968640"/>
                <a:ext cx="2340000" cy="21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F65E-006E-477A-936B-ED6187F7BDDA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hod of Eli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asic strategy is to successively solve one of the equations of the set for one of the unknowns and to eliminate that variable from the remaining equations by substit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limination of unknowns can be extended to systems with more than two or three equations; however, the method becomes extremely tedious to solve by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415F-5D94-480F-86D2-8EF34220C67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ive Gauss Eli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thod of elimin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large sets of equations by developing a systematic scheme or algorithm to eliminate unknowns and to back substitu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in the case of the solution of two equations, the technique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quations consists of two pha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ward elimination of unknow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k 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52DD-99C1-408C-B385-6A531DCA0F0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1882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ig. 9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40000" y="0"/>
            <a:ext cx="6454800" cy="612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D654-605F-4B9E-85BB-580F067F3C6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tfalls of Elimination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vision by zero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t is possible that during both elimination and back-substitution phases a division by zero can occ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und-off erro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ll-conditioned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Systems where small changes in coefficients result in large changes in the solution. Alternatively, it happens when two or more equations are nearly identical, resulting a wide ranges of answers to approximately satisfy the equations. Since round off errors can induce small changes in the coefficients, these changes can lead to large solution err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D6B7-C077-48D4-99BD-3352978B447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360" y="8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ngular syste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When two equations are identical, we would loose one degree of freedom and be dealing with the impossible cas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quations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nknowns. For large sets of equations, it may not be obvious however. The fact that the determinant of a singular system is zero can be used and tested by computer algorithm after the elimination stage. If a zero diagonal element is created, calculation is termin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12B0-FF1A-497E-B455-D8940968C22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chniques for Improving Sol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more significant fig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ivoting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 pivot element is zero, normalization step leads to division by zero. The same problem may arise, when the pivot element is close to zero. Problem can be avoi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rtial pivoting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witching the rows so that the largest element is the pivot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lete pivoting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arching for the largest element in all rows and columns then switc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BF8B-BCAB-488A-8A24-10F415EF99D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near Algebraic Equations</a:t>
            </a:r>
            <a:br>
              <a:rPr sz="4000"/>
            </a:b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art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quation of the form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ax+by+c=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equivalently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ax+by=-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alled a linear equation in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riab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ax+by+cz=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linear equation in three variables,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x, 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, a linear equation in n variables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+a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+ … +a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olution of such an equation consists of real numbers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, … , c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If you need to work more than one linear equations, a system of linear equations must be solved simultaneous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F0CB-C547-490D-91FD-094315D63E6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uss-Jord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variation of Gauss elimination. The major differenc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n unknown is eliminated, it is eliminated from all other equations rather than just the subsequent on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rows are normalized by dividing them by their pivot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ion step results in an identity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equently, it is not necessary to employ back substitution to obtain solu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15D3-47D4-4594-BD8D-7929EA7A886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ncomputer Methods for Solving Systems of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small number of equations (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3) linear equations can be solved readily by simple techniques such as “method of eliminatio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ar algebra provides the tools to solve such systems of linear eq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adays, easy access to computers makes the solution of large sets of linear algebraic equations possible  and pract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91AC-ABAE-41E3-971D-783C293AA29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auss Elimination</a:t>
            </a:r>
            <a:br>
              <a:rPr sz="4000"/>
            </a:b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ing Small Numbers of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many ways to solve a system of linear equ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amer’s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of eli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95640" y="3357720"/>
            <a:ext cx="1116000" cy="1511280"/>
          </a:xfrm>
          <a:custGeom>
            <a:avLst/>
            <a:gdLst>
              <a:gd name="textAreaLeft" fmla="*/ 0 w 1116000"/>
              <a:gd name="textAreaRight" fmla="*/ 402840 w 111600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43640" y="3860640"/>
            <a:ext cx="20160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≤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2821-4734-4D19-B71D-ECB21273BD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wo equ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both equations for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934920" y="2133720"/>
                <a:ext cx="3167280" cy="13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900000" y="4257720"/>
                <a:ext cx="6588360" cy="20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lope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ntercept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3E81-35C9-48C1-9DF7-959C2B25BC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297000"/>
            <a:ext cx="2602080" cy="58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ot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s.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rectilinear paper, the intersection of the lines present the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56000" y="225360"/>
            <a:ext cx="5148360" cy="5670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596360" y="333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ig. 9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5AD6-2B25-4CF8-A5F3-87665541B50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equate and solve for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655640" y="2060640"/>
                <a:ext cx="5184720" cy="414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2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1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2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1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2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1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2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1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53F8-F868-4958-BC16-1CD005C7B7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837200" y="1088640"/>
            <a:ext cx="1306440" cy="11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9.2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736640"/>
            <a:ext cx="9144000" cy="3600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-681480" y="5481720"/>
            <a:ext cx="32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ol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90520" y="5516640"/>
            <a:ext cx="37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inite solu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4520" y="5589720"/>
            <a:ext cx="42285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l-conditio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lopes are too clo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3060-0A24-4E47-89BA-3BD0F52EEF8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rminants and Cramer’s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2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ant can be illustrated for a set of three equ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A is the coefficient matri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243080" y="2673360"/>
                <a:ext cx="14367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6086520" y="3938760"/>
                <a:ext cx="1158840" cy="21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066680" y="4473720"/>
                <a:ext cx="2562480" cy="17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95E1-BFA5-4490-B899-E38FA4C8A8C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22:41:49Z</dcterms:created>
  <dc:creator>YURTTAS</dc:creator>
  <dc:description/>
  <dc:language>en-US</dc:language>
  <cp:lastModifiedBy>baga0122</cp:lastModifiedBy>
  <dcterms:modified xsi:type="dcterms:W3CDTF">2006-06-13T01:14:58Z</dcterms:modified>
  <cp:revision>34</cp:revision>
  <dc:subject/>
  <dc:title>Linear Algebraic Equations Part 3</dc:title>
</cp:coreProperties>
</file>