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522-C4B5-44F3-BF53-44110311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EC7-B8DF-49FA-B489-D64208AB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014-F17D-487D-A044-3F40A759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37F-87AB-4899-B30B-C79B7B43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8E0-B964-453A-BD5F-ACF11CB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4E5-D622-4653-946E-E442724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4D9-FABC-4D50-9996-B8C91D82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641-14FF-4807-A3F9-A2C98E3D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38B-BED7-4265-9048-56F9D29C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9BF-F6B4-4D2D-9FA5-F0201237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6C5-8758-4197-A79E-2289AF3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576-4124-4507-B8B3-DCD2663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5CEA-6D92-4D7C-B558-3E38C7580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D28-C753-49DB-AA8E-66F477CCFF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58920" y="3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all matrices are square matrices, there is a number associated with each square matrix  A called the determinant, D, of A. (D=det (A)). If [A] is order 1, then [A] has one e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[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quare matrix of order 2,  A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terminant is D=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3753000"/>
            <a:ext cx="158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1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4720" y="3573360"/>
            <a:ext cx="1224000" cy="1548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AC7-9242-48C1-B46E-BB0F420A8F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quare matrix of order 3, 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determinant of the matrix of order 2 by deleting r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lum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0F6-3360-4B94-924C-3AB461C602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63640" y="944640"/>
                <a:ext cx="4753080" cy="50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547640" y="1233360"/>
            <a:ext cx="16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27280" y="101592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04A-B0C0-4CBA-82B9-BB09E302E6D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31640" y="584280"/>
                <a:ext cx="5400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68360" y="2673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1916280"/>
            <a:ext cx="781200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amer’s r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resses the solution of a systems of linear equations in terms of ratios of determinants of the array of coefficients of the equations. For ex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be computed 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0" y="3968640"/>
                <a:ext cx="234000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9F0-1204-4624-A81C-58FB1E289CC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of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ategy is to successively solve one of the equations of the set for one of the unknowns and to eliminate that variable from the remaining equations by sub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imination of unknowns can be extended to systems with more than two or three equations; however, the method becomes extremely tedious to solve b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5A3-760C-4C5F-9531-C5C41AA833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ive Gauss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 of elim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arge sets of equations by developing a systematic scheme or algorithm to eliminate unknowns and to back substit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in the case of the solution of two equations, the techniqu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tions consists of two ph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limination of unkn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8F0-C492-43E8-A10D-E23B390108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188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ig. 9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0000" y="0"/>
            <a:ext cx="6454800" cy="61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A20-CA11-46B7-9AB2-9DC7827418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tfalls of Eliminatio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sion by zero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is possible that during both elimination and back-substitution phases a division by zero can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nd-off 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ll-conditioned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ystems where small changes in coefficients result in large changes in the solution. Alternatively, it happens when two or more equations are nearly identical, resulting a wide ranges of answers to approximately satisfy the equations. Since round off errors can induce small changes in the coefficients, these changes can lead to large solution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F89-527B-4E97-9AF6-9BDC939997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ngular syste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hen two equations are identical, we would loose one degree of freedom and be dealing with the impossible cas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tion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knowns. For large sets of equations, it may not be obvious however. The fact that the determinant of a singular system is zero can be used and tested by computer algorithm after the elimination stage. If a zero diagonal element is created, calculation is term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DC7-2097-480D-AEB4-49637C0765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chniques for Improving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more significant fig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ivoting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pivot element is zero, normalization step leads to division by zero. The same problem may arise, when the pivot element is close to zero. Problem can be avoi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ial pivot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witching the rows so that the largest element is the pivo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 pivot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ing for the largest element in all rows and columns then swi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B6E-ECA5-4E99-9059-82DFCD7CC3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Algebraic Equations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quation of the form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x+by+c=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equivalently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x+by=-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a linear equation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x+by+cz=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linear equation in three variables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linear equation in n variable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 … +a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lution of such an equation consists of real number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… , 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f you need to work more than one linear equations, a system of linear equations must be solved simul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F4B-1BE0-4034-B9E0-5AD5C4F237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-Jor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variation of Gauss elimination. The major differen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unknown is eliminated, it is eliminated from all other equations rather than just the subsequent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ws are normalized by dividing them by their pivot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step results in an identity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it is not necessary to employ back substitution to obtain sol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02F-7287-4987-A927-9DA6FB44B0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computer Methods for Solving Systems of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mall number of equations (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3) linear equations can be solved readily by simple techniques such as “method of elimin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algebra provides the tools to solve such systems of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adays, easy access to computers makes the solution of large sets of linear algebraic equations possible  and prac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CEE-4E77-49F6-9F6F-9C13CA35B1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 Elimin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Small Numbers of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ways to solve a system of linear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mer’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3357720"/>
            <a:ext cx="1116000" cy="1511280"/>
          </a:xfrm>
          <a:custGeom>
            <a:avLst/>
            <a:gdLst>
              <a:gd name="textAreaLeft" fmla="*/ 0 w 1116000"/>
              <a:gd name="textAreaRight" fmla="*/ 402840 w 11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43640" y="386064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3CD-F97E-4B18-A77B-2353F7511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wo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both equations fo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34920" y="2133720"/>
                <a:ext cx="31672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00000" y="4257720"/>
                <a:ext cx="6588360" cy="20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op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ntercep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B93-480C-4266-9F56-40A94B4F69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97000"/>
            <a:ext cx="2602080" cy="58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rectilinear paper, the intersection of the lines present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56000" y="225360"/>
            <a:ext cx="5148360" cy="567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g. 9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581-D592-4F12-A407-04DF6D972A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equate and solve fo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55640" y="2060640"/>
                <a:ext cx="5184720" cy="41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B76-3185-44BF-9696-F10C79A740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37200" y="1088640"/>
            <a:ext cx="130644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9.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681480" y="548172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90520" y="551664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e 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4520" y="5589720"/>
            <a:ext cx="4228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-conditio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opes are too c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3B4-6988-4607-AAB1-0DD4D4B15F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ants and Cramer’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nt can be illustrated for a set of three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 is the coefficient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43080" y="2673360"/>
                <a:ext cx="14367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6680" y="4473720"/>
                <a:ext cx="256248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ABB-C292-41CE-BAAE-6A445EC4F5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22:41:49Z</dcterms:created>
  <dc:creator>YURTTAS</dc:creator>
  <dc:description/>
  <dc:language>en-US</dc:language>
  <cp:lastModifiedBy>baga0122</cp:lastModifiedBy>
  <dcterms:modified xsi:type="dcterms:W3CDTF">2006-06-13T01:14:58Z</dcterms:modified>
  <cp:revision>34</cp:revision>
  <dc:subject/>
  <dc:title>Linear Algebraic Equations Part 3</dc:title>
</cp:coreProperties>
</file>