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5CB-BA9A-4DC0-817B-5218AD2C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800-6932-4CD2-9109-3FEE3ABA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D313-8C42-4BF0-8968-C51C2815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7E5-14E5-4FC5-A5C6-09DA0F90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363-5C1C-472A-AEFA-90905CE6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2E0-0CA8-4E54-B446-430109C1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DA96-8B33-43A2-AB42-3334F4F5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E90-6BF9-46B8-8B74-2B3AFA28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4C0-9DD4-4EBE-8C07-D9C33616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02E-FDB5-4EA7-B635-C650962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339-A862-4E14-8728-D9A3BD79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372-3F58-4B34-A77A-858253F2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FAEE-3B58-4D99-8D6B-EFFDEA7F7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BCB-95C4-4757-86E0-FE2F34E246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 Decomposition and Matrix Inversion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59228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an efficient way to compute matrix inverse by separating the time consuming elimination of the Matrix [A] from manipulations of the right-hand side {B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auss elimi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n which the forward elimination comprises the bulk of the computational effort, can be implemented as an LU decompos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C22-C871-4F36-BF20-3F2D6428F7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31640" y="583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ower triangular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pper triangular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A]{X}={B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decomposed into two matrice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L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U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L][U]=[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L][U]{X}={B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first phas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auss elim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U]{X}={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L]{D}={B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L]{D}={B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generate an intermediate vector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{D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forward sub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,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[U]{X}={D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get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{X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back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F63-2522-4633-8B3E-F0C6430AD8B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7280" y="297000"/>
            <a:ext cx="8425080" cy="565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297000"/>
            <a:ext cx="13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g.1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48A-979F-4285-B960-B3AF4352DD4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87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U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the same total FLOPS as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auss el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s computing time by separating time-consuming elimination step from the manipulations of the right hand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efficient means to compute the matrix in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EEF-B2F0-4F3F-9B92-1EA57092E4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16:38Z</dcterms:created>
  <dc:creator>YURTTAS</dc:creator>
  <dc:description/>
  <dc:language>en-US</dc:language>
  <cp:lastModifiedBy>baga0122</cp:lastModifiedBy>
  <dcterms:modified xsi:type="dcterms:W3CDTF">2006-06-15T17:37:16Z</dcterms:modified>
  <cp:revision>21</cp:revision>
  <dc:subject/>
  <dc:title>LU Decomposition and Matrix Inversion Chapter 10</dc:title>
</cp:coreProperties>
</file>