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6BE-A0AD-445A-B37F-0574D2D1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18E-9168-498B-B577-EE83C52C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E7E-933D-4209-85C1-6D2698AD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64F-185A-4AE0-A660-29E3204F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8C39-3E82-41A6-8357-A841EFAD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7D9-52E4-4378-81B6-AAE6ED48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F14-8A12-4D81-BE81-1EB8D3C8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0E5-78C3-41BC-95E8-D26BB4D9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3A0-98E4-4559-8B08-B49A9767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384-F966-478F-AE58-290D157E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596-8F56-4DD5-B4D2-02524F4D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763-4D3A-4069-A0CD-7A074A06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F180-0DB8-4BB1-AADF-E47B5E9E1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AD3-AE59-4E21-B234-2DD15B7993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U Decomposition and Matrix Inversion</a:t>
            </a:r>
            <a:br>
              <a:rPr sz="40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59228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an efficient way to compute matrix inverse by separating the time consuming elimination of the Matrix [A] from manipulations of the right-hand side {B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auss elimi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 which the forward elimination comprises the bulk of the computational effort, can be implemented as an LU decom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8CA-5725-41B8-8CD0-E4962A1AF6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31640" y="583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ower triangular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pper triangular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A]{X}={B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decomposed into two matrice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L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U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L][U]=[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L][U]{X}={B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first phas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auss elim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U]{X}={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L]{D}={B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L]{D}={B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generate an intermediate vector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{D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forward sub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U]{X}={D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get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{X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back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DA5-B092-4923-BD47-3FD95CC3E9A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7280" y="297000"/>
            <a:ext cx="8425080" cy="565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297000"/>
            <a:ext cx="13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g.1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82A-5051-4181-998D-545EC6EADCE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87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U de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the same total FLOPS as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auss eli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s computing time by separating time-consuming elimination step from the manipulations of the right hand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efficient means to compute the matrix in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EB8-CCBA-45C3-9B5A-95857596C6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16:38Z</dcterms:created>
  <dc:creator>YURTTAS</dc:creator>
  <dc:description/>
  <dc:language>en-US</dc:language>
  <cp:lastModifiedBy>baga0122</cp:lastModifiedBy>
  <dcterms:modified xsi:type="dcterms:W3CDTF">2006-06-15T17:37:16Z</dcterms:modified>
  <cp:revision>21</cp:revision>
  <dc:subject/>
  <dc:title>LU Decomposition and Matrix Inversion Chapter 10</dc:title>
</cp:coreProperties>
</file>