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465-8C39-424B-8F31-9C6FC947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ACF1-BB23-40AF-9DBA-B5540C95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9A6-E940-4773-A358-C5009FC2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DEF-EC62-4494-84ED-45E9895F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88E-7926-47AC-81DE-A6659785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5F6-7D5D-4527-B7E4-D9867EF5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B2B7-9897-4E12-981E-6485FED9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2A9-8F6C-427A-A759-684536A8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E38-4DEB-4B0F-9E71-3DC93FA0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158-C056-4407-BD5C-2A3DED76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F8B1-CCE0-433E-B66B-6CF5F9AB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4CC-CFEA-4A2C-A6E7-52D4A336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0721-DDA0-4ACB-87CE-159712E3C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28544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947-EAB0-4BA2-9024-161049270F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uss-Sei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ve or approximate methods provide an alternative to the elimination methods. The Gauss-Seidel method is the most commonly used iterative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[A]{X}={B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reshaped by solving the first equ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econd equ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the third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and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For conciseness, we will limit ourselves to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3x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of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0190-3E33-4613-8EA2-B68878714A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863640" y="441360"/>
                <a:ext cx="3203640" cy="31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84360" y="3933720"/>
            <a:ext cx="77770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start the solution process by choosing guesses for the x’s. A simple way to obtain initial guesses is to assume that they are zero. These zeros can be substituted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tion to calculate a ne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3C8-7108-4CD1-8BFC-F8282CEBD5D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4920" y="5842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ubstituted to calcul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procedure is repeated until the convergence criterion is satis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826920" y="2168640"/>
                <a:ext cx="403884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≺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55640" y="40053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present and previous it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C46-1249-412B-94FF-CE3E5600C0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2459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ig. 1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49780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F605-1093-4D31-AF21-A3E321BB4E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rgence Criterion for Gauss-Seidel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449360"/>
            <a:ext cx="80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auss-Seidel method has two fundamental problems as any iterative meth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sometimes nonconvergent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converges, converges very slow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ing that sufficient conditions for convergence of two linear equation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(x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(x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150920" y="4149720"/>
                <a:ext cx="195912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≺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≺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2BE-EAE8-4F06-9149-0A47ABAE0C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31280" y="657360"/>
            <a:ext cx="82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ly, in case of two simultaneous equations, the Gauss-Seidel algorithm can be express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08000" y="2070000"/>
                <a:ext cx="3594240" cy="405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22E-C9DF-4790-B9C9-66F09381549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76000" y="4762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ion into convergence criterion of two linear equations yi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26920" y="1484280"/>
                <a:ext cx="3384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≺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≺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11280" y="260028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ther words, the absolute values of the slopes must be less than unity for converg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132000" y="3753000"/>
                <a:ext cx="2345040" cy="29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ABA-A9F5-4533-B31B-C477D83862C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173844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igure 1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31640" y="728640"/>
            <a:ext cx="8244000" cy="532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E62-C6B2-438E-903A-187281A2F7B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22:18:57Z</dcterms:created>
  <dc:creator>YURTTAS</dc:creator>
  <dc:description/>
  <dc:language>en-US</dc:language>
  <cp:lastModifiedBy>baga0122</cp:lastModifiedBy>
  <dcterms:modified xsi:type="dcterms:W3CDTF">2006-06-15T17:39:15Z</dcterms:modified>
  <cp:revision>24</cp:revision>
  <dc:subject/>
  <dc:title>Special Matrices and Gauss-Seidel Chapter 11</dc:title>
</cp:coreProperties>
</file>