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9995-6403-44B7-BF39-2BAB85E9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B95-A221-4585-BA7B-C91E7CE6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01D-6FBD-4AFE-B256-26B81B3A3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956-3170-4297-B04F-31CBF975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C15-BA2D-4935-93EF-2A40C9B2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BA5-BED4-47DB-9345-77BA270A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4C7-1A5E-4990-852B-90C5B898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57C-D2D2-454E-A0B7-EC07E41F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FD0-345E-433B-93E7-630859AD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A3A-8726-43D2-97CA-5E14012C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AED-4891-4ECB-BDF0-71085149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3DD-94F8-4AEF-9660-88C43BFB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B513-0340-494C-B5FA-9AEC59B2F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8A81-6789-4C21-98B7-2983A47B23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uss-Sei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 or approximate methods provide an alternative to the elimination methods. The Gauss-Seidel method is the most commonly used iterative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[A]{X}={B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reshaped by solving the first equ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econd equ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the third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and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For conciseness, we will limit ourselves to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x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of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F00-96B9-4645-A9F6-8C4A579509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863640" y="441360"/>
                <a:ext cx="3203640" cy="31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84360" y="3933720"/>
            <a:ext cx="77770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start the solution process by choosing guesses for the x’s. A simple way to obtain initial guesses is to assume that they are zero. These zeros can be substituted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tion to calculate a ne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0F8-3B90-461A-AAD1-118D050F421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4920" y="584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ubstituted to calcul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 procedure is repeated until the convergence criterion is satis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26920" y="2168640"/>
                <a:ext cx="40388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≺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755640" y="4005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present and previous it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024-4B56-4888-87FE-356CFA37CB3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459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g. 1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49780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53A-C501-4B2D-AEA9-411681015E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gence Criterion for Gauss-Seidel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449360"/>
            <a:ext cx="80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auss-Seidel method has two fundamental problems as any iterative 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ometimes nonconvergent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converges, converges very slow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ing that sufficient conditions for convergence of two linear equation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(x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(x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150920" y="4149720"/>
                <a:ext cx="195912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≺</m:t>
                        </m:r>
                        <m:r>
                          <m:t xml:space="preserve">1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≺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861-935B-4582-B0AD-2A6DF2E290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31280" y="65736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ly, in case of two simultaneous equations, the Gauss-Seidel algorithm can be express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08000" y="2070000"/>
                <a:ext cx="3594240" cy="405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1EBD-9650-487B-8ED6-7B07C2E823F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76000" y="476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itution into convergence criterion of two linear equations y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26920" y="1484280"/>
                <a:ext cx="33847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≺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≺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11280" y="260028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ther words, the absolute values of the slopes must be less than unity for converg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132000" y="3753000"/>
                <a:ext cx="2345040" cy="29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47A-5310-4B4B-8A9D-5B8193EC93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173844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gure 1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31640" y="728640"/>
            <a:ext cx="8244000" cy="532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72B-33F2-4093-815A-2DD9569F90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22:18:57Z</dcterms:created>
  <dc:creator>YURTTAS</dc:creator>
  <dc:description/>
  <dc:language>en-US</dc:language>
  <cp:lastModifiedBy>baga0122</cp:lastModifiedBy>
  <dcterms:modified xsi:type="dcterms:W3CDTF">2006-06-15T17:39:15Z</dcterms:modified>
  <cp:revision>24</cp:revision>
  <dc:subject/>
  <dc:title>Special Matrices and Gauss-Seidel Chapter 11</dc:title>
</cp:coreProperties>
</file>