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386-978C-4F4C-B729-2DDABBBD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D97-AEE2-472F-8A14-86B21503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136-BB01-4378-93AB-1569EEF2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988D-0B8F-41DF-91EF-456F6CE9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778-8E3D-4641-86B7-221EB408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BD8-ACDF-4549-AD0B-AF00D0C5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B01-3037-4014-8645-46DAA237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73D-95F1-472C-B83D-8B37DD3D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483-DED6-4EF5-B559-08228CC1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2B6-81DD-4AC5-8CEE-5AD34846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CDC5-C97F-4A18-88CE-65E2347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AFB-7714-41CE-88FF-ED4BC748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036B-F2FA-4D47-83EA-E7BFC485C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6900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285444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7E4-3A4C-4DB3-9045-B270B4F485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76360" y="260280"/>
                <a:ext cx="13618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58920" y="1736640"/>
            <a:ext cx="7488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condition specifies that the sum of the two sub lengths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ust equal the original interval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say that the ratio of the length must b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47640" y="4241880"/>
                <a:ext cx="4429080" cy="23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8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959280" y="5950080"/>
            <a:ext cx="1800000" cy="5032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9640" y="5300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e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543640" y="5661000"/>
            <a:ext cx="612720" cy="3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4AB-4B1E-417D-B6ED-6374E299367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163044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igure 1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48000" y="189000"/>
            <a:ext cx="4103640" cy="60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168-3508-4F33-A4F7-C9515F8B0A8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51264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thod starts with two initial gues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at bracket one local extremu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two interior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hosen according to the golden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2781360"/>
                <a:ext cx="3095640" cy="22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68360" y="5445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nction is evaluated at these two interior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2D9-2A8C-4B37-875C-874C1A834B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512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esults can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&gt;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the domai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lef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n be eliminated because it does not contain the maximum. The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omes the ne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next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&gt;f(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 the domai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righ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ould have been eliminated. In this ca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comes the ne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e next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determined a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26920" y="4869000"/>
                <a:ext cx="403884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08B-DCCD-423C-8A99-78800197CDF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31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l benefit from the use of golden ratio is because the origin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re chosen using golden ratio, we do not need to recalculate all the function values for the next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880-FCB1-4723-933D-EF64909F7E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ton’s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imilar approach to Newton- Raphson method can be used to find an optimum of f(x) by defining a new function g(x)=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‘(x). Thus because the same optimal value x* satisfies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‘(x*)=g(x*)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e can use the following as a technique to the extremum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f(x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008000" y="4975200"/>
                <a:ext cx="28796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048-CD1A-4546-BC00-97562437E0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mization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art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ot finding and optimization are related, both involve guessing and searching for a point on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amental differenc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finding is searching for zeros of a function or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s finding the minimum or the maximum of a function of several variab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690-B53F-4207-80BC-CD5E4BED2D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87280" y="189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PT4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6360" y="800280"/>
            <a:ext cx="802800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7EEF-63A3-4842-A8AC-789EBE596C7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ematical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1640" y="1412640"/>
            <a:ext cx="82188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timiz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hematical programm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blem generally be stat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minimizes or maximiz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ject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900000" y="3068640"/>
                <a:ext cx="450072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∗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719280" y="4581360"/>
            <a:ext cx="759600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dimension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sign v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ctive 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equality 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quality constrai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CF6-092B-4EAA-BFC5-5622054785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tion problems can be classified on the basis of the form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 constraints are linear, we have linear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quadratic and the constraints are linear, we have quadratic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linear or quadratic and/or the constraints are nonlinear, we have nonlinear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equations(*) are included, we hav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ained optim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; otherwise, it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constrained optim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t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970-FED2-4871-BB5C-0097038985F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8316720" cy="166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e-Dimensional Unconstrained Optimization</a:t>
            </a:r>
            <a:br>
              <a:rPr sz="40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ltimod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, both local and global optima can occur. In almost all cases, we are interested in finding the absolute highest or lowest value of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4427280" cy="2197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66520" y="2529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gure 1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C858-D08F-484E-89D3-BB9FA8FB8B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we distinguish global optimum from local 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raphing to gain insight into the behavior of the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randomly generated starting guesses and picking the largest of the optima as glob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urbing the starting point to see if the routine returns a better point or the same local min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2F2-44F2-4C23-AE78-71274F6C48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en-Section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mod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has a single maximum or a minimum in the a given interval. F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mod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pick two points that will bracket your extremum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an additional third point within this interval to determine whether a maximum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pick a fourth point to determine whether the maximum has occurred within the first three or last thre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is making this approach efficient by choosing intermediate points wisely thus minimizing the function evaluations by replacing the old values with new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5F8-7AFB-4B25-B743-8AB95A5344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191952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gure 1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11280" y="692280"/>
            <a:ext cx="6337440" cy="55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D26-C07E-48E6-B9D2-DB9BAA5B4F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20:19:43Z</dcterms:created>
  <dc:creator>YURTTAS</dc:creator>
  <dc:description/>
  <dc:language>en-US</dc:language>
  <cp:lastModifiedBy>Mita</cp:lastModifiedBy>
  <dcterms:modified xsi:type="dcterms:W3CDTF">2006-06-24T22:36:31Z</dcterms:modified>
  <cp:revision>25</cp:revision>
  <dc:subject/>
  <dc:title>Optimization Part 4</dc:title>
</cp:coreProperties>
</file>