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BFE-2BF8-442D-9ADA-2C2DB871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6F3-389C-4713-8196-0B1D8852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010-8DBD-4748-ADBE-4CA1CAE3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49C-9A4B-4CEE-A028-BC970F8B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665-F999-4530-BC6C-938346B2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072-0336-4558-ABDD-8335BE48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500-2A98-487B-A477-75A30950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D88-C5C6-4C2A-8D29-0E1C0888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E07-5575-499C-9428-38BC76EB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1D3-9D62-4D92-9E89-B39F95D5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8A9-A583-49AE-993C-E475647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68D-AE20-4A9F-927D-C84E57FF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509C-DDD0-4188-B487-B4E9207FA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CBD-EFE0-43C7-8F2A-C42A0DD63F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76360" y="260280"/>
                <a:ext cx="13618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58920" y="1736640"/>
            <a:ext cx="7488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condition specifies that the sum of the two sub lengths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equal the original interval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say that the ratio of the length must b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47640" y="4241880"/>
                <a:ext cx="442908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8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959280" y="5950080"/>
            <a:ext cx="1800000" cy="503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9640" y="5300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e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543640" y="5661000"/>
            <a:ext cx="612720" cy="3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48C-A62C-4940-B04A-ABF35AD264B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16304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gure 1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48000" y="189000"/>
            <a:ext cx="4103640" cy="60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725-0E66-4935-9012-A31AC19A16C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512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starts with two initial gues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bracket one local extremu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two interior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hosen according to the golden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2781360"/>
                <a:ext cx="309564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68360" y="5445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 is evaluated at these two interior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603-B8D8-401F-B9D1-238889A289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512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sults can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&gt;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the doma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lef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n be eliminated because it does not contain the maximum. Th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omes the ne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next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&gt;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the doma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righ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ould have been eliminated. In this ca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omes the ne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next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determined a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26920" y="4869000"/>
                <a:ext cx="403884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2A2-A211-440A-A7F0-66115F8182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31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l benefit from the use of golden ratio is because the origin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re chosen using golden ratio, we do not need to recalculate all the function values for the next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5DC-80AA-431F-AE2D-5C42FF00BE6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ton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ilar approach to Newton- Raphson method can be used to find an optimum of f(x) by defining a new function g(x)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‘(x). Thus because the same optimal value x* satisfies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‘(x*)=g(x*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e can use the following as a technique to the extremum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f(x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008000" y="4975200"/>
                <a:ext cx="28796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B5C-687D-421B-8E89-7DE22294B4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ar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finding and optimization are related, both involve guessing and searching for a point on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amental differenc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finding is searching for zeros of a function o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s finding the minimum or the maximum of a function of several vari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044-6287-401B-A8B4-BD689E92A0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7280" y="189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PT4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6360" y="800280"/>
            <a:ext cx="80280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F19-51CA-44AB-9CC3-0B90929F05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ematical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1640" y="1412640"/>
            <a:ext cx="82188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timiz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hematical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blem generally be stat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minimizes or maximiz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00000" y="3068640"/>
                <a:ext cx="450072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719280" y="4581360"/>
            <a:ext cx="7596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imensio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sign 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ive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equality 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ity 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0F7-C34E-4772-AB4A-A9A3EA2192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 problems can be classified on the basis of the form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constraints are linear, we have linear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quadratic and the constraints are linear, we have quadratic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linear or quadratic and/or the constraints are nonlinear, we have nonlinear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quations(*) are included, we hav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ained optim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; otherwise, i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onstrained optim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9BB-AA00-4906-A442-530185ADF4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8316720" cy="166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-Dimensional Unconstrained Optimizat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ltimod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, both local and global optima can occur. In almost all cases, we are interested in finding the absolute highest or lowest value of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4427280" cy="219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66520" y="2529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gure 1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5F6-BF2D-480D-81FC-134138E310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distinguish global optimum from local 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raphing to gain insight into the behavior of th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randomly generated starting guesses and picking the largest of the optima as glob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urbing the starting point to see if the routine returns a better point or the same local min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7E5-FB6F-417A-88AC-7FF6B382F0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en-Se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mod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has a single maximum or a minimum in the a given interval. 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mod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ick two points that will bracket your extremum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n additional third point within this interval to determine whether a maximum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pick a fourth point to determine whether the maximum has occurred within the first three or last thre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 making this approach efficient by choosing intermediate points wisely thus minimizing the function evaluations by replacing the old values with new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06C-F6FB-4566-AC2A-68FDC6EBA1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191952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11280" y="692280"/>
            <a:ext cx="633744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095-762A-4915-A10C-24B0586DAC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20:19:43Z</dcterms:created>
  <dc:creator>YURTTAS</dc:creator>
  <dc:description/>
  <dc:language>en-US</dc:language>
  <cp:lastModifiedBy>Mita</cp:lastModifiedBy>
  <dcterms:modified xsi:type="dcterms:W3CDTF">2006-06-24T22:36:31Z</dcterms:modified>
  <cp:revision>25</cp:revision>
  <dc:subject/>
  <dc:title>Optimization Part 4</dc:title>
</cp:coreProperties>
</file>