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1E3-7305-426C-9441-A5B96DFD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BE2-152B-485B-94FA-1588145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7CE-280E-4AC5-92DC-4484E324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C54-C923-4E8F-BCE9-9DDE75AA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A42-5FC6-46FC-A1B1-0BA08917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63D-ACDF-41EB-97B3-2127E602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42D-86B0-41D2-B864-8B2D151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F4A-0CDA-475E-8D81-761CEBF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78A-E072-4052-AA47-C7544CE2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558-28C3-4094-9237-D8E6202A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09A8-CBB8-43A1-BA24-BA5EE2B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844-7F99-4603-B8D4-B3038FE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EF57-FC07-477D-A66F-182F26770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6000" y="9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48320" y="3940200"/>
          <a:ext cx="403848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40200"/>
                    <a:ext cx="403848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382920" y="1197000"/>
            <a:ext cx="5761080" cy="446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61080" y="6573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igure 14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0920" y="1665360"/>
                <a:ext cx="2844720" cy="39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Hessia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one dimensional functions both first and second derivatives  valuable information for searching out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derivative provides (a) the steepest trajectory of the function and (b) tells us that we have reached the max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derivative tells us that whether we are a maximum or mini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wo dimensional functions whether a maximum or a minimum occurs involves not only the partial derivatives w.r.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also the second partials w.r.t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197964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4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49360"/>
            <a:ext cx="4319640" cy="4356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427640" y="1449360"/>
            <a:ext cx="471636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759720" y="94464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 14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8255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that the partial derivatives are continuous at and near the point being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1665360"/>
                <a:ext cx="666144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f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 and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≻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a local minimu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≻</m:t>
                        </m:r>
                        <m:r>
                          <m:rPr>
                            <m:lit/>
                            <m:nor/>
                          </m:rPr>
                          <m:t xml:space="preserve">0 and 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≺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a local minimu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≺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n 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has a saddle poi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826920" y="526572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antity [H] is equal to the determinant of a     matrix made up of second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eepest Ascend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640" y="152100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at an initial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determine the direction of steepest ascend, that is, the gradient. Then search along the direction of the gradient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until we find maximum. Process is then rep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9280" y="1736640"/>
            <a:ext cx="5184720" cy="4105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75560" y="1376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gure 1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3640" y="36828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has two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“best direction”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ng the “best value” along that search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epest ascent method uses the gradient approach as its choice for the “best”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ransform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o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ong the gradient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12880" y="3716280"/>
                <a:ext cx="26924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824360" y="5265720"/>
            <a:ext cx="27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distance along the h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384720" y="4544640"/>
            <a:ext cx="14745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 and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43280" y="3500280"/>
                <a:ext cx="262872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h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0" y="260280"/>
                <a:ext cx="5651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166920" y="1089000"/>
                <a:ext cx="47307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dimensional Unconstrained Optimiz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640" y="22417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s to find minimum and maximum of a function of several variables are descri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echniques are classifi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require derivativ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descent (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c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do not require derivativ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n-grad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188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gure 14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1160640"/>
            <a:ext cx="849600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METHO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valuation of the function randomly at selected values of the independent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ufficient number of samples are conducted, the optimum will be eventually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maximum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(x, y)=y-x-2x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2xy-y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found using a random number gen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61563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5800" cy="58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even for discontinuous and nondifferentiable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the number of independent variables grows, the task can become on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fficient, it does not account for the behavior of underlying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ivariate and Pattern Se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than random search and still doesn’t require derivative eval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ategy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one variable at a time while the other variables are held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problem is reduced to a sequence of one-dimensional searches that can be solved by variety of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arch becomes less efficient as you approach the maxi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8464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4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512640"/>
            <a:ext cx="6769080" cy="572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DIENT METHO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dients and Hessi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Gradi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two dimensional function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ad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ctor tells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irection is the steepest asc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we will gain by taking that st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224000" y="425772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j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 </m:t>
                    </m:r>
                    <m:r>
                      <m:rPr>
                        <m:lit/>
                        <m:nor/>
                      </m:rPr>
                      <m:t xml:space="preserve">del 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111640" y="533700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 derivativ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point x=a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526920" y="4723920"/>
            <a:ext cx="172908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9:03:06Z</dcterms:created>
  <dc:creator>YURTTAS</dc:creator>
  <dc:description/>
  <dc:language>en-US</dc:language>
  <cp:lastModifiedBy>baga0122</cp:lastModifiedBy>
  <dcterms:modified xsi:type="dcterms:W3CDTF">2006-06-26T17:33:57Z</dcterms:modified>
  <cp:revision>33</cp:revision>
  <dc:subject/>
  <dc:title>Multidimensional Unconstrained Optimization Chapter 14</dc:title>
</cp:coreProperties>
</file>