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E53-6730-401F-A29D-1CB4F8C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1D2-E3A8-42BB-BE94-7EB64504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DDF-1AD0-496C-9CF5-FB6B785D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9E9-0296-4340-ACCB-5131308C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0E0-023A-4298-9758-9D564C5D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8E2-5A98-4F20-8334-E133D3E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A20-533D-4769-A41D-37FCF0E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47C-69DC-41DE-B016-10E7BA7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B6D-0E45-45AC-B24C-B974B6DE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FC8-51B4-4309-ABCA-45C2AF9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A17-2B78-46B1-8228-928E4A0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6F4-578F-4607-A2EF-715D4DF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B10-8B9F-4DE5-B9DA-0381E4F4C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6000" y="9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3940200"/>
          <a:ext cx="403848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40200"/>
                    <a:ext cx="403848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82920" y="1197000"/>
            <a:ext cx="5761080" cy="446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61080" y="657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igure 1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0920" y="1665360"/>
                <a:ext cx="2844720" cy="39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Hessia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ne dimensional functions both first and second derivatives  valuable information for searching out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erivative provides (a) the steepest trajectory of the function and (b) tells us that we have reached the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derivative tells us that whether we are a maximum or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o dimensional functions whether a maximum or a minimum occurs involves not only the partial derivatives w.r.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also the second partials w.r.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19796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9360"/>
            <a:ext cx="4319640" cy="43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449360"/>
            <a:ext cx="47163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59720" y="9446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 1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5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the partial derivatives are continuous at and near the point being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1665360"/>
                <a:ext cx="666144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 and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≻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local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 and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≺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local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≺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saddle poi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826920" y="5265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antity [H] is equal to the determinant of a     matrix made up of second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eepest Ascen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640" y="152100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an initial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determine the direction of steepest ascend, that is, the gradient. Then search along the direction of the gradien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til we find maximum. Process is then rep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9280" y="1736640"/>
            <a:ext cx="5184720" cy="410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75560" y="1376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gure 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36828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has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“best direction”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“best value” along that search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epest ascent method uses the gradient approach as its choice for the “best”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orm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ong the gradient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12880" y="3716280"/>
                <a:ext cx="26924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824360" y="5265720"/>
            <a:ext cx="27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istance along the h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84720" y="4544640"/>
            <a:ext cx="14745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 and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43280" y="3500280"/>
                <a:ext cx="262872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h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0" y="260280"/>
                <a:ext cx="5651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66920" y="1089000"/>
                <a:ext cx="4730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mensional Unconstrained 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640" y="2241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to find minimum and maximum of a function of several variables are descri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echniques are classifi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require derivativ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descent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c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do not require derivativ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grad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188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gure 1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160640"/>
            <a:ext cx="849600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METHO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valuation of the function randomly at selected values of the independent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ufficient number of samples are conducted, the optimum will be eventually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aximum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(x, y)=y-x-2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2xy-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found using a random number gen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1563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580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even for discontinuous and nondifferentiabl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independent variables grows, the task can become on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fficient, it does not account for the behavior of underly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ariate and Pattern Se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than random search and still doesn’t require derivative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ateg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one variable at a time while the other variables are held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problem is reduced to a sequence of one-dimensional searches that can be solved by variety of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arch becomes less efficient as you approach the max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8464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512640"/>
            <a:ext cx="6769080" cy="57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DIENT METHO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dients and Hess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Gradi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wo dimensional function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tells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rection is the steepest asc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we will gain by taking that st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24000" y="425772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j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r>
                      <m:rPr>
                        <m:lit/>
                        <m:nor/>
                      </m:rPr>
                      <m:t xml:space="preserve">del 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11640" y="533700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 derivativ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point x=a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526920" y="4723920"/>
            <a:ext cx="172908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9:03:06Z</dcterms:created>
  <dc:creator>YURTTAS</dc:creator>
  <dc:description/>
  <dc:language>en-US</dc:language>
  <cp:lastModifiedBy>baga0122</cp:lastModifiedBy>
  <dcterms:modified xsi:type="dcterms:W3CDTF">2006-06-26T17:33:57Z</dcterms:modified>
  <cp:revision>33</cp:revision>
  <dc:subject/>
  <dc:title>Multidimensional Unconstrained Optimization Chapter 14</dc:title>
</cp:coreProperties>
</file>