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DEDB-E49C-422E-8B8C-4E86DDCD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717-9473-41E5-93E1-FB7C0847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4F7-6DDC-440A-B1A4-4538ED60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B34-F6FD-4259-BC0D-0989E6BD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291-4529-4DB4-BC9F-4B27D242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680-7143-4299-ABE7-635C68AD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0FB3-DFDF-4A06-B280-4A86B2D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650-387C-45E8-AC72-AB072AC9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462-6DC2-4DB2-88A4-D87567F2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9A7-0CCE-4593-8344-243D9B3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D52-CD43-4D75-BBF7-FA2F5C99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D8D-D362-4574-81D2-8565E570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4DC-EAAB-4B62-9EED-FB3B8649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hapter 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ion of intermediate values between precise data points. The most common method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there is one and only o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-order polynomial that fi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ints, there are a variety of mathematical formats in which this polynomial can be expres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ton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grange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900000" y="2637000"/>
                <a:ext cx="4038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7E6-5D9C-46C4-BF0B-0A9403329D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225360"/>
            <a:ext cx="2493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03640" y="620640"/>
            <a:ext cx="421308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B30-2914-4D83-8B9C-FE64A14C8B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efficients of an Interpolating 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both the Newton and Lagrange polynomials are well suited for determining intermediate values between points, they do not provide a polynomial in convention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a points are required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efficients, simultaneous linear systems of equations can be used to calculate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00000" y="3573360"/>
                <a:ext cx="5472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C03-B592-4CBD-BB76-AEBEA4B795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280" y="765000"/>
                <a:ext cx="6095880" cy="28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539640" y="414972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“x”s are the knowns and “a”s are the unknow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352-FECB-453F-B201-ACEB1F63054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28544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71640" y="728640"/>
            <a:ext cx="522144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EE7-C700-4F71-B64A-B2FA5817C3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ne Interp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ases where polynomials can lead to erroneous results because of round off error and oversh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approach is to apply lower-order polynomials to subsets of data points. Such connecting polynomials are called splin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1E6-7393-461F-84A5-27C6075C52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2602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59280" y="189000"/>
            <a:ext cx="248436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68A-840D-4E15-9237-682DF94C4B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3780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1160640"/>
            <a:ext cx="7201080" cy="45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22E-F657-4F99-9FAA-9D068713BF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25671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297000"/>
            <a:ext cx="403236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480-44E8-4244-B84B-06DE5BFD333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29624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2000" y="907920"/>
            <a:ext cx="727236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A70-D45C-4FD4-9788-BA823FD7135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5640" y="225360"/>
            <a:ext cx="2601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808280"/>
            <a:ext cx="818352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1D3-5770-4D88-AE51-6509B28599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ton’s Divided-Difference Interpolat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ear Interpolati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implest form of interpolation, connecting two data points with a straigh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ignates that this is a first-order interpolating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900000" y="3141720"/>
                <a:ext cx="52196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0000" y="4149720"/>
            <a:ext cx="5184720" cy="971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92720" y="4365720"/>
            <a:ext cx="27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near-interpolation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24360" y="3897360"/>
            <a:ext cx="2016000" cy="13320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8720" y="2673360"/>
            <a:ext cx="1944720" cy="16185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and a finite divided difference approximation to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riv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716000" y="3537000"/>
            <a:ext cx="1800360" cy="576360"/>
          </a:xfrm>
          <a:prstGeom prst="line">
            <a:avLst/>
          </a:prstGeom>
          <a:ln w="93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813-5011-4118-A8AE-0C3691A71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2854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8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8000" y="260280"/>
            <a:ext cx="5651640" cy="59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54AB-23A2-4D93-BA7F-2E06C5F5B4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9280" y="404280"/>
            <a:ext cx="8255160" cy="47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Quadratic Interpolatio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ree data points are available, the estimate is improved by introducing some curvature into the line connecting the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ple procedure can be used to determine the values of the coeffic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08000" y="2313000"/>
                <a:ext cx="633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08000" y="3753000"/>
                <a:ext cx="5651640" cy="29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2B0-5D12-456E-9DF0-A6E55944A3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68280"/>
            <a:ext cx="829152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eneral Form of Newton’s Interpolating Polynomial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47640" y="1197000"/>
                <a:ext cx="6242040" cy="545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⋯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643280" y="4076640"/>
            <a:ext cx="241308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cketed function evaluations are finite divided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4005360"/>
            <a:ext cx="1008000" cy="647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6360" y="4797360"/>
            <a:ext cx="1476360" cy="6476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6360" y="5769000"/>
            <a:ext cx="2340000" cy="7920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DFA-68E1-4F82-A53F-0B9BD5156B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584280"/>
            <a:ext cx="8218440" cy="55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rrors of Newton’s Interpolating Polynomia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interpolating polynomials is similar to the Taylor series expansion in the sense that finite divided differences are added sequentially to capture the higher order deriv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rder interpolating polynomial, an analogous relationship for the erro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non differentiable functions, if an additional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vailable, an alternative formula can be used that does not require prior knowledge of 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63640" y="3033720"/>
                <a:ext cx="5437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26920" y="5624640"/>
                <a:ext cx="7729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≃</m:t>
                    </m:r>
                    <m:r>
                      <m:t xml:space="preserve">f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6372360" y="3033720"/>
            <a:ext cx="255744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omewhere containing the unknown and 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83C-57B1-466F-B092-ADF4766CE7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grange Interpolating Polynom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6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grange interpolating polynomial is simply a reformulation of the Newton’s polynomial that avoids the computation of divided differ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87480" y="3105000"/>
                <a:ext cx="3460680" cy="25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749-1FAE-48BF-9245-4AB8494F9F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68360" y="800280"/>
                <a:ext cx="7632720" cy="30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95280" y="3897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with Newton’s method, the Lagrange version has an estimated error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9640" y="4976640"/>
                <a:ext cx="6337440" cy="128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53B-686E-48B4-A9E5-03C825C28AA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0:18:23Z</dcterms:created>
  <dc:creator>YURTTAS</dc:creator>
  <dc:description/>
  <dc:language>en-US</dc:language>
  <cp:lastModifiedBy>baga0122</cp:lastModifiedBy>
  <dcterms:modified xsi:type="dcterms:W3CDTF">2006-06-18T00:43:11Z</dcterms:modified>
  <cp:revision>29</cp:revision>
  <dc:subject/>
  <dc:title>Interpolation Chapter 18</dc:title>
</cp:coreProperties>
</file>