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017-BBF6-452A-83EE-8D17B3DD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0D6-D646-4229-A66F-3D3C3393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497-80A7-464C-8F32-FBEEC5B5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6F6-4909-4499-BC04-1FF8E33E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2CE-08C9-457A-B6E4-3E493C66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437-E7EB-4EC2-9FC4-165E2FC2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647-278A-46B5-B2B7-EA728598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42C-BA04-4AE5-B196-C405E7D7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55B-D8AB-4773-BB38-A82F2504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F33-FC31-4130-BF4D-102746FD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AAD-AC0A-452B-B179-153F8D8B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748-249A-478E-A991-1BC667E2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5BF1-F48B-45D3-8941-19B11E4C0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Chapter 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on of intermediate values between precise data points. The most common metho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there is one and only o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-order polynomial that f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s, there are a variety of mathematical formats in which this polynomial can be expres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ton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grange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00000" y="2637000"/>
                <a:ext cx="4038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45F-4DFB-4AFA-9F40-3D620FE7E49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560" y="225360"/>
            <a:ext cx="2493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8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03640" y="620640"/>
            <a:ext cx="421308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DFD-814B-458E-8F32-46247ADCC2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efficients of an Interpolating Poly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both the Newton and Lagrange polynomials are well suited for determining intermediate values between points, they do not provide a polynomial in conventional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points are required to determ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efficients, simultaneous linear systems of equations can be used to calculate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00000" y="3573360"/>
                <a:ext cx="5472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F0B-CBB6-4F9A-BBFA-487BCADDE3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03280" y="765000"/>
                <a:ext cx="6095880" cy="28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>
                        <m:r>
                          <m:t xml:space="preserve">⋮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539640" y="414972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“x”s are the knowns and “a”s are the unknow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0B6-FE71-489F-B946-0E574B2D57A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28544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8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71640" y="728640"/>
            <a:ext cx="5221440" cy="532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CEA-9E3D-4B57-874C-C7EC93B053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line Interp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cases where polynomials can lead to erroneous results because of round off error and oversh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approach is to apply lower-order polynomials to subsets of data points. Such connecting polynomials are called spline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BCC-ED14-4613-A195-10F6543AFE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26020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8.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2484360" cy="60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699-21D2-43C7-9EC9-7F210853C19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3780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8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1160640"/>
            <a:ext cx="7201080" cy="453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79F-A1D2-4BC2-AE8B-6A3CCBFF66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2567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8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11280" y="297000"/>
            <a:ext cx="4032360" cy="58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57D-57A0-4806-8EED-CD93F09C7DC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29624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8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2000" y="907920"/>
            <a:ext cx="7272360" cy="511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EA4-AFA3-4387-9346-6239D9AA81F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15640" y="225360"/>
            <a:ext cx="2601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808280"/>
            <a:ext cx="8183520" cy="31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87B-F40C-4BA3-A750-8B434A207B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ton’s Divided-Difference Interpolating Polynom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near Interpolati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implest form of interpolation, connecting two data points with a straigh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signates that this is a first-order interpolating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00000" y="3141720"/>
                <a:ext cx="52196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900000" y="4149720"/>
            <a:ext cx="5184720" cy="97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92720" y="4365720"/>
            <a:ext cx="27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near-interpolation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24360" y="3897360"/>
            <a:ext cx="2016000" cy="13320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8720" y="2673360"/>
            <a:ext cx="1944720" cy="1618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and a finite divided difference approximation to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riv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716000" y="3537000"/>
            <a:ext cx="1800360" cy="57636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7ED-D86D-428C-874D-DC0DD76934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2854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8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651640" cy="59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195-AA6D-4309-88B6-B104482D2E4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551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uadratic Interpolatio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ree data points are available, the estimate is improved by introducing some curvature into the line connecting the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mple procedure can be used to determine the values of the coeffic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08000" y="2313000"/>
                <a:ext cx="6335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08000" y="3753000"/>
                <a:ext cx="5651640" cy="29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74A-BEEA-479E-88C7-09E9D9CF3E7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68280"/>
            <a:ext cx="82915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eneral Form of Newton’s Interpolating Polynomial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47640" y="1197000"/>
                <a:ext cx="6242040" cy="545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⋯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⋮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643280" y="4076640"/>
            <a:ext cx="2413080" cy="100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cketed function evaluations are finite divided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640" y="4005360"/>
            <a:ext cx="1008000" cy="647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6360" y="4797360"/>
            <a:ext cx="1476360" cy="647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360" y="5769000"/>
            <a:ext cx="2340000" cy="7920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165-4590-479D-B0FB-9020D2551C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584280"/>
            <a:ext cx="8218440" cy="55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rrors of Newton’s Interpolating Polynomia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interpolating polynomials is similar to the Taylor series expansion in the sense that finite divided differences are added sequentially to capture the higher order deriv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rder interpolating polynomial, an analogous relationship for the error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on differentiable functions, if an additional poi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vailable, an alternative formula can be used that does not require prior knowledge of the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863640" y="3033720"/>
                <a:ext cx="5437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⋯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826920" y="5624640"/>
                <a:ext cx="7729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⋯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6372360" y="3033720"/>
            <a:ext cx="255744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somewhere containing the unknown and 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6FC-DAE7-4DDF-93E7-84C7C2D07D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grange Interpolating Polynom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grange interpolating polynomial is simply a reformulation of the Newton’s polynomial that avoids the computation of divided differ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87480" y="3105000"/>
                <a:ext cx="3460680" cy="25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F0F-DA54-4D53-9FE1-293BE41F5D3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68360" y="800280"/>
                <a:ext cx="7632720" cy="30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95280" y="3897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ith Newton’s method, the Lagrange version has an estimated error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39640" y="4976640"/>
                <a:ext cx="6337440" cy="12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]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4CD-850F-4544-8619-1D92D208640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0:18:23Z</dcterms:created>
  <dc:creator>YURTTAS</dc:creator>
  <dc:description/>
  <dc:language>en-US</dc:language>
  <cp:lastModifiedBy>baga0122</cp:lastModifiedBy>
  <dcterms:modified xsi:type="dcterms:W3CDTF">2006-06-18T00:43:11Z</dcterms:modified>
  <cp:revision>29</cp:revision>
  <dc:subject/>
  <dc:title>Interpolation Chapter 18</dc:title>
</cp:coreProperties>
</file>