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665-CE0A-4150-A714-F2F773F3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464-7B2F-4F38-A7E0-B88175F4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D49-34BF-4F69-AD5A-8E92445D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546-FF34-426A-8C32-462060CA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C4F-6B27-447B-92F4-30F9A7D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92E-4914-4AF5-BDB5-C6693B7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89E-79AE-4786-9F90-A54D472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11F-F54C-4006-9CB8-FB5E0859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E5F-A60D-43C1-BC4B-CDFC7F64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303-3838-475F-A421-FBCC0A2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5BA-BD87-4FBD-8B9F-6A59026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C38-C69F-443A-8018-5A1C0E01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86ED-6D2F-4652-AE85-1B186819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erical Differentiation and Integ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ing in the heart of calculus are the mathematical concepts of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different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66680" y="3581280"/>
                <a:ext cx="381024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=</m:t>
                            </m:r>
                          </m:e>
                          <m:sub>
                            <m:r>
                              <m:t xml:space="preserve">Δ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118-E6FB-48F4-AB3F-A3E6D3211B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apezoid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pezoidal 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first of the Newton-Cotes closed integration formulas, corresponding to the case where the polynomial is first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a under this first order polynomial is an        estimate of the integr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limi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14400" y="3048120"/>
                <a:ext cx="388620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5638680"/>
                <a:ext cx="32814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495680" y="5867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rapezoid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63868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0BF-9F39-4048-83B3-939171E8A1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2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35C-D83A-40C3-925A-D4BACCA266A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440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rror of the Trapezoidal Rul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employ the integral under a straight line segment to approximate the integral under a curve, error may be substa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somewhere in the interval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14400" y="3276720"/>
                <a:ext cx="3809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44D-FD5D-4664-9AB7-D44F4A846E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Multiple Application Trapezoidal Rul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improve the accuracy of the trapezoidal rule is to divide the integration interval from a to b into a number of segments and apply the method to each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s of individual segments can then be added to yield the integral for the entire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ng the trapezoidal rule for each integral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14400" y="3581280"/>
                <a:ext cx="411480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⋯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38080" y="5791320"/>
                <a:ext cx="7162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3B2-4D1F-436B-8773-AFC32352EC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gure 21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57200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DE4-8495-4109-A95A-CFE991C357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son’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ccurate estimate of an integral is obtained if a high-order polynomial is used to connect the points. The formulas that result from taking the integrals under such polynomial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son’s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pson’s 1/3 Rul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econd-order interpolating polynomial is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9E5-8BD3-4EF6-A173-DF176FFC42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7AA-76E7-4DFD-8A29-039A216F91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0880" y="762120"/>
                <a:ext cx="7848720" cy="32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≃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880" y="3200400"/>
            <a:ext cx="5029200" cy="76212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419720"/>
            <a:ext cx="304776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son’s 1/3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352680" y="3962520"/>
            <a:ext cx="990720" cy="457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1F9-21B9-4437-B9DC-64F178E5677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145-8EEF-4FF8-A322-C9CA1FA14B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01992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72A-52AE-42D3-AFD1-154EC142C3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computer Methods for Differentiation and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to be differentiated or integrated will typically be in one of the following three for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continuous function such as polynomial, an exponential, or a trigonometr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icated continuous function that is difficult or impossible to differentiate or integrate 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ulated function where values of x and f(x) are given at a number of discrete points, as is often the case with experimental or fiel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539-2AE5-4446-9D4F-A0A916916D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01B-E9FE-45D1-B3CA-779CD101EC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335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AC1-AA27-4674-9ABF-5EB7001060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-Cotes Integration Formulas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hapter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ton-Cotes formul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ost common numerical integration sche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based on the strategy of replacing a complicated function or tabulated data with an approximating function that is easy to integ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4648320"/>
                <a:ext cx="4495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≃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8F3-A5FB-4858-AB62-585B61B697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2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36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912-D9E5-456B-AC38-520E96BA60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3276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2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638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0E7-1837-4170-A85F-9314AEAA0B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20:52:42Z</dcterms:created>
  <dc:creator>sy</dc:creator>
  <dc:description/>
  <dc:language>en-US</dc:language>
  <cp:lastModifiedBy>baga0122</cp:lastModifiedBy>
  <dcterms:modified xsi:type="dcterms:W3CDTF">2006-06-22T17:32:52Z</dcterms:modified>
  <cp:revision>34</cp:revision>
  <dc:subject/>
  <dc:title>Numerical Differentiation and Integration Part 6</dc:title>
</cp:coreProperties>
</file>