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9AAB-4CC9-4DCB-AE06-3DEEDAD85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FB98-B354-4A33-A3B1-E5B97B41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403E-561D-48E7-9A6E-25110FFB4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91D2-F8FB-4F70-B9CC-02F84A3B9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6A54-2B26-4DD3-BDB3-344CBC4E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3B43-AD55-4C4B-AA56-AB2F2AA3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6FDF-800A-4156-B742-E7F202A4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E288-712B-4B56-9D85-470C0A92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6840-F8CD-4EE1-B38D-D9377645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66F6-7B77-4056-9AC2-1686156F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1A9A-D025-4097-8C39-6965E414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DB4E-0836-49D5-9FA3-F50A066B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CE14-9ACF-4F32-B7E9-F293D84D3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690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he McGraw-Hill Companies, Inc. 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153640" cy="1524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umerical Differentiation and Integr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ing in the heart of calculus are the mathematical concepts of </a:t>
            </a: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differenti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integ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066680" y="3581280"/>
                <a:ext cx="3810240" cy="25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Δ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sSub>
                          <m:e>
                            <m:r>
                              <m:t xml:space="preserve">=</m:t>
                            </m:r>
                          </m:e>
                          <m:sub>
                            <m:r>
                              <m:t xml:space="preserve">Δx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m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acc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Δ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7253-6E04-4795-8DE2-5414EBE197A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rapezoidal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rapezoidal ru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first of the Newton-Cotes closed integration formulas, corresponding to the case where the polynomial is first or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rea under this first order polynomial is an        estimate of the integral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tween the limi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914400" y="3048120"/>
                <a:ext cx="3886200" cy="12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≃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914400" y="5638680"/>
                <a:ext cx="328140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4495680" y="5867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Trapezoidal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91120" y="5638680"/>
            <a:ext cx="304560" cy="914400"/>
          </a:xfrm>
          <a:custGeom>
            <a:avLst/>
            <a:gdLst>
              <a:gd name="textAreaLeft" fmla="*/ 0 w 304560"/>
              <a:gd name="textAreaRight" fmla="*/ 109800 w 304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B703-20D4-4411-AFD2-506FA353B12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Figure 21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46748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347A-C75A-4619-8144-925A875805B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305920" cy="54403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Error of the Trapezoidal Rule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we employ the integral under a straight line segment to approximate the integral under a curve, error may be substant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es somewhere in the interval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914400" y="3276720"/>
                <a:ext cx="38098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1AD5-295B-42C4-87E6-5F906FB1CD9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he Multiple Application Trapezoidal Rule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way to improve the accuracy of the trapezoidal rule is to divide the integration interval from a to b into a number of segments and apply the method to each seg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eas of individual segments can then be added to yield the integral for the entire inter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ing the trapezoidal rule for each integral yiel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914400" y="3581280"/>
                <a:ext cx="4114800" cy="154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+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+</m:t>
                            </m:r>
                          </m:e>
                        </m:nary>
                        <m:r>
                          <m:t xml:space="preserve">⋯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838080" y="5791320"/>
                <a:ext cx="716292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h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h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r>
                      <m:t xml:space="preserve">h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B19E-19ED-4895-9D35-1C8C51D5106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240" y="152280"/>
            <a:ext cx="2590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igure 21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133720" y="533520"/>
            <a:ext cx="4572000" cy="556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7ACE-B2BF-4FB2-9826-04D64BA5C20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son’s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accurate estimate of an integral is obtained if a high-order polynomial is used to connect the points. The formulas that result from taking the integrals under such polynomials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mpson’s r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impson’s 1/3 Rul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second-order interpolating polynomial is us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287F-C016-4679-B646-7E57FE26FD7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igure 2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83944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37F9-38AC-4F2A-9A10-6E8AA48A21D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80880" y="762120"/>
                <a:ext cx="7848720" cy="32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≃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</m:e>
                      <m:e/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den>
                                </m:f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den>
                                </m:f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den>
                                </m:f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e/>
                      <m:e>
                        <m:r>
                          <m:t xml:space="preserve">I</m:t>
                        </m:r>
                        <m:r>
                          <m:t xml:space="preserve">≃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80880" y="3200400"/>
            <a:ext cx="5029200" cy="762120"/>
          </a:xfrm>
          <a:prstGeom prst="rect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4419720"/>
            <a:ext cx="3047760" cy="3682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son’s 1/3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352680" y="3962520"/>
            <a:ext cx="990720" cy="4572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82FB-730D-482B-B768-429C41423394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2895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Figure PT6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25040" cy="304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49E2-A814-4D47-A73E-A6F44C6E441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Figure PT6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3880" y="762120"/>
            <a:ext cx="6019920" cy="53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326F-A7CA-4E3F-9F26-335862E0E40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ncomputer Methods for Differentiation and Integ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unction to be differentiated or integrated will typically be in one of the following three form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imple continuous function such as polynomial, an exponential, or a trigonometric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licated continuous function that is difficult or impossible to differentiate or integrate direc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abulated function where values of x and f(x) are given at a number of discrete points, as is often the case with experimental or field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04BD-F50F-4FBE-BB18-AF69CFBE36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51920" y="152280"/>
            <a:ext cx="2971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Figure PT6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696080" cy="495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8999-7A65-4AE3-AFB2-3D6A7BDFCDD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3353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Figure PT6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14600" y="609480"/>
            <a:ext cx="3962520" cy="55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0C9F-3FD7-4C37-BA11-B771FD8A8BF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wton-Cotes Integration Formulas</a:t>
            </a:r>
            <a:br>
              <a:rPr sz="4000"/>
            </a:b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Chapter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ewton-Cotes formul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most common numerical integration schem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are based on the strategy of replacing a complicated function or tabulated data with an approximating function that is easy to integr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914400" y="4648320"/>
                <a:ext cx="449568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≃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F439-5302-44BB-B2FA-A23A998CAA3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51920" y="152280"/>
            <a:ext cx="3048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Figure 21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696080" cy="36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FB4D-29A1-4069-97AA-2B583A81241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3276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Figure 2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63868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6CD4-A811-4196-A179-4B886D27800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20:52:42Z</dcterms:created>
  <dc:creator>sy</dc:creator>
  <dc:description/>
  <dc:language>en-US</dc:language>
  <cp:lastModifiedBy>baga0122</cp:lastModifiedBy>
  <dcterms:modified xsi:type="dcterms:W3CDTF">2006-06-22T17:32:52Z</dcterms:modified>
  <cp:revision>34</cp:revision>
  <dc:subject/>
  <dc:title>Numerical Differentiation and Integration Part 6</dc:title>
</cp:coreProperties>
</file>