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471-D822-4C62-B585-C07BB867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679-E4CD-4029-878F-554B9DE1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5BA-2675-4328-817F-5294AF4B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8CB-0157-4296-BF05-BD2A915B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9F5-87D6-4DD7-90FB-D8DD30D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E1E-446F-400F-937C-1D6226D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BBB-4C0C-44AC-8C85-7458881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C07-B71B-434B-9581-33F2B05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B8F-2618-45A1-85A6-13F5B3B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9DD-7106-43A3-9CD2-4775931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157-AB4E-43AD-8640-AC38503F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731-4110-48D2-BC09-6ED80D4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964-F68C-4715-9B3B-B910E7A9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erical Differenti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pter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of numerical differentiation has been introduced in Chapter 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hapter more accurate formulas that retain more terms will be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820-AB7F-4A26-952A-2E415A2A9A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Accuracy Differentiation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accuracy divided-difference formulas can be generated by including additional terms from the Taylor series expa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47920" y="3048120"/>
                <a:ext cx="63244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B0E-700F-47A0-B17B-1B5AC57305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of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ve term has improved the accuracy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roved versions can be developed for the backward and centered formulas as well as for the approximations of the higher deriv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29A-C573-4A6F-B1A4-5E5926B11F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4:49:15Z</dcterms:created>
  <dc:creator>sy</dc:creator>
  <dc:description/>
  <dc:language>en-US</dc:language>
  <cp:lastModifiedBy>baga0122</cp:lastModifiedBy>
  <dcterms:modified xsi:type="dcterms:W3CDTF">2006-06-26T19:42:47Z</dcterms:modified>
  <cp:revision>15</cp:revision>
  <dc:subject/>
  <dc:title>Numerical Differentiation Chapter 23</dc:title>
</cp:coreProperties>
</file>