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6A5-1D92-46BB-9452-CBA11D66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13C-4C7C-4B68-A1E9-FD56DEC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8D6D-35DC-4C74-A4B8-5DB81BDE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800-4CA2-4BBE-A019-3697F200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344-3225-436B-95A0-3CB90542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53D-8E28-422D-9D7A-FE147BF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B3B-2B5B-4AF5-9D70-622367EB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2B1-095F-48A0-B631-348580C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E29-0470-4043-8A1A-4E6B55E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7175-93BF-4DC0-B333-EC3FA8CA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48E-5165-48EE-BF02-B49E94A9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FCF-C345-44E8-AB1C-4A00B0D8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5474-5323-435C-A926-37349EC8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erical Differentiati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hapter 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on of numerical differentiation has been introduced in Chapter 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hapter more accurate formulas that retain more terms will be develo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874-40D8-4F18-95CC-00C66D3D03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Accuracy Differentiation Formu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-accuracy divided-difference formulas can be generated by including additional terms from the Taylor series expa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47920" y="3048120"/>
                <a:ext cx="63244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⋯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h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0594-2231-432D-BF37-FD859F1504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sion of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ve term has improved the accuracy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improved versions can be developed for the backward and centered formulas as well as for the approximations of the higher deriv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B77F-0C4B-4479-ACE9-763C7F4FC0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04:49:15Z</dcterms:created>
  <dc:creator>sy</dc:creator>
  <dc:description/>
  <dc:language>en-US</dc:language>
  <cp:lastModifiedBy>baga0122</cp:lastModifiedBy>
  <dcterms:modified xsi:type="dcterms:W3CDTF">2006-06-26T19:42:47Z</dcterms:modified>
  <cp:revision>15</cp:revision>
  <dc:subject/>
  <dc:title>Numerical Differentiation Chapter 23</dc:title>
</cp:coreProperties>
</file>