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EF1-08F5-45E3-B4AE-730DE09A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B0B-BE6A-4185-9FAA-6D540EC5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51E-92DB-4937-842A-1A67DB68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C43-F560-4014-8781-8C772D27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EB8-980B-4384-85E0-36FF6F65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B7B-1B1A-46B2-AE3A-69204B6F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E28-0227-4A7C-A244-D72C72C7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B48-D642-49E2-B8C1-E7226960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0C4-8C45-45F3-9424-61E8A2CF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585-D992-4705-83DC-9C75D59E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C24-0F07-4B1E-94AF-8C70AC2F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6CB-0777-4AD3-864F-FE10C1A2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F43A-19DE-446B-B289-97C0C3CE9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dinary Differential Equ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s which are composed of an unknown function and its derivativ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fferential equ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l equations play a fundamental role in engineering because many physical phenomena are best formulated mathematically in terms of their rate of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5410080"/>
            <a:ext cx="3657600" cy="10159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14400" y="5334120"/>
                <a:ext cx="22860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7F1-2732-4D1F-BA90-15748FBF87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ylor series provides a means of quantifying the error in Euler’s method. Howe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aylor series provides only an estimate of the local truncation error-that is, the error created during a single step of the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ctual problems, the functions are more complicated than simple polynomials. Consequently, the derivatives needed to evaluate the Taylor series expansion would not always be easy to ob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clus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rror can be reduced by reducing the ste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olution to the differential equation is linear, the method will provide error free predictions as for a straight lin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rivative would be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4A5-EAA5-440B-ADD3-C89D273198A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228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5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441972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B46-8412-4F42-8C50-FF059217B11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rovements of Euler’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damental source of error in Euler’s method is that the derivative at the beginning of the interval is assumed to apply across the entire inter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imple modifications are available to circumvent this shortco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n’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idpoint (or Improved Polygon)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4C6-1FE3-40BA-8FD6-7C79256DB1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eun’s Method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method to improve the estimate of the slope involves the determination of two derivatives for the inter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initial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nd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wo derivatives are then averaged to obtain an improved estimate of the slope for the entire inter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38080" y="4572000"/>
                <a:ext cx="7010640" cy="15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edictor: 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ctor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31A4-7FB2-427A-8C2E-BA44F463093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629040" y="-360"/>
            <a:ext cx="2514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5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0" y="152280"/>
            <a:ext cx="4343400" cy="601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7CC-B15F-411F-839E-2D43D7D3437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Midpoint (or Improved Polygon) Method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Euler’s method t predict a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midpoint of the inter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066680" y="2133720"/>
                <a:ext cx="52578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36D-F8BF-4411-B451-8273C42AABD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152280"/>
            <a:ext cx="4114800" cy="6096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77480" y="18108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5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D2EB-9A5F-4720-A145-249F87B9277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nge-Kutta Methods (R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ge-Kutta methods achieve the accuracy of a Taylor series approach without requiring the calculation of higher deriv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14400" y="3048120"/>
                <a:ext cx="6324480" cy="33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ants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,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809880" y="3429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crement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4648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p’s and q’s are 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90E-D3E9-421F-8F39-5C955B0EEF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re recurrence functions. Because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functional evaluation, this recurrence makes RK methods efficient for computer calc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types of  RK methods can be devised by employing different number of terms in the increment function as specifi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order RK method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 fact Euler’s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hosen, valu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are evaluated by setting general equation equal to terms in a Taylor series expa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90720" y="4952880"/>
                <a:ext cx="4267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AA6-3747-488B-A2C0-1E8010E3C07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s of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evaluated by setting the second order equation to Taylor series expansion to the second order term. Three equations to evaluate four unknowns constants are deri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43000" y="1981080"/>
                <a:ext cx="5952960" cy="436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ve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weve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</m:e>
                        </m:d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an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1FC-7972-44CF-98BC-6F93DC84BC7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function involves one dependent variable, the equation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dinary differential equation (or ODE)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artial differential equation (or PD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two or more independent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l equations are also classified as to their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irst order 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s a first derivative as its highest deriv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second order 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s a second deriv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order equations can be reduced to a system of first order equations, by redefining 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EECE-F3A9-4F11-8A29-2F4E4D577E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-47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                                        to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obtain                          (3 equations-4 unknow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362320" y="4648320"/>
                <a:ext cx="1008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819520" y="3733920"/>
                <a:ext cx="5410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343400" y="228600"/>
                <a:ext cx="2743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04920" y="1066680"/>
                <a:ext cx="80010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h</m:t>
                            </m:r>
                          </m:e>
                        </m:d>
                      </m:e>
                    </m:d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319040" y="1990800"/>
                <a:ext cx="714384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 rot="16200000">
            <a:off x="3695400" y="1256760"/>
            <a:ext cx="343080" cy="2781360"/>
          </a:xfrm>
          <a:custGeom>
            <a:avLst/>
            <a:gdLst>
              <a:gd name="textAreaLeft" fmla="*/ 219240 w 343080"/>
              <a:gd name="textAreaRight" fmla="*/ 343440 w 343080"/>
              <a:gd name="textAreaTop" fmla="*/ 72360 h 2781360"/>
              <a:gd name="textAreaBottom" fmla="*/ 2709000 h 278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297180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DAE-2DFF-47DD-B736-7CF731A80E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we can choose an infinite number of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re are an infinite number of second-order RK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version would yield exactly the same results if the solution to ODE were quadratic, linear, or a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y yield different results if the solution is more complicated (typically the ca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of the most commonly used method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uen Method with a Single Corrector 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=1/2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e Midpoint Method 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=1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altson’s Method (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</a:rPr>
              <a:t>=2/3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97D-9D9E-4058-884E-E4DD605E78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3048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5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24816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C66-A285-49FF-9537-0B2BEAC4A4B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Es and Engineering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2743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PT7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86764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091-DE68-4EFC-9309-56510E6434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438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PT7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7C1-61AF-426D-9637-E4B7D2417D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nga-Kutta Methods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pter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chapter is devoted to solving ordinary differential equations of th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ler’s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14400" y="2514600"/>
                <a:ext cx="22096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CDC3-4DF4-4C75-B231-743E9DC224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848720" cy="5791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5640" y="181080"/>
            <a:ext cx="18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C391-88E7-487C-9F52-418EAC4065A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derivative provides a direct estimate of the slope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ifferential equation evaluat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is estimate can be substituted into the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edicted using the slope to extrapolate linearly over the step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14400" y="1828800"/>
                <a:ext cx="25146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90720" y="4038480"/>
                <a:ext cx="46479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EE5-CA6E-4B07-A685-DB2D66BFC1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4495680" cy="392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98720" y="304920"/>
                <a:ext cx="40827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art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int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981080" y="1828800"/>
                <a:ext cx="53341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410080" y="327672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5F5-4260-4FB3-B9B8-9B16A7D89E7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rror Analysis for Euler’s Method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erical solutions of ODEs involves two types of err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un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cal truncatio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pagated truncatio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the two is 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tal or global trunca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und-of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676520" y="3124080"/>
                <a:ext cx="2590560" cy="15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1EC-BA1A-4B6D-A96C-4ACC5499336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05:38:16Z</dcterms:created>
  <dc:creator>sy</dc:creator>
  <dc:description/>
  <dc:language>en-US</dc:language>
  <cp:lastModifiedBy>baga0122</cp:lastModifiedBy>
  <dcterms:modified xsi:type="dcterms:W3CDTF">2006-06-26T23:51:59Z</dcterms:modified>
  <cp:revision>47</cp:revision>
  <dc:subject/>
  <dc:title>Ordinary Differential Equations</dc:title>
</cp:coreProperties>
</file>