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830-5CFD-4561-985E-CB808795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8EB-FE27-48C0-8738-EB3998C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423-168C-4E0A-BD1C-A85FC0D1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E96-EFC8-499B-B1C6-4D9CCE1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F6C-FFFD-48F6-AA21-10E4B65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617-F821-44DA-9AFF-3921777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E88-EE73-4137-8E2F-7CED7918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64D-1A9B-4050-B42D-3B571F5D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079-DE5E-450B-A10B-EA8F2514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8DE-C34D-402A-AB03-8F37ED9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864-D545-4169-8A25-AB0CA7D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113-D222-44B3-AACD-AFE4392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5114-A937-4481-8F7E-565837BD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inary Differential Equ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which are composed of an unknown function and its derivativ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equations play a fundamental role in engineering because many physical phenomena are best formulated mathematically in terms of their rate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5410080"/>
            <a:ext cx="3657600" cy="1015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5334120"/>
                <a:ext cx="2286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5EC-0A5D-4301-A5B5-DF9585D36D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ylor series provides a means of quantifying the error in Euler’s method. How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ylor series provides only an estimate of the local truncation error-that is, the error created during a single step of th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ual problems, the functions are more complicated than simple polynomials. Consequently, the derivatives needed to evaluate the Taylor series expansion would not always be easy to ob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clus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rror can be reduced by reducing the ste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olution to the differential equation is linear, the method will provide error free predictions as for a straight lin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ivative would be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19D-B47E-45A7-AE43-C148BD1738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41972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15B-75C7-4253-A8AB-B15D682E39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ments of Eule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damental source of error in Euler’s method is that the derivative at the beginning of the interval is assumed to apply across the entir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imple modifications are available to circumvent this shortco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n’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point (or Improved Polygon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240-A66E-4849-9380-BC12E82A6F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un’s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thod to improve the estimate of the slope involves the determination of two derivatives for th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initi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derivatives are then averaged to obtain an improved estimate of the slope for the entire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4572000"/>
                <a:ext cx="701064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dictor: 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ctor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E7F-17E5-4CFA-AC5A-C3BE8EB06E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629040" y="-3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803-6F36-4849-81AF-3FA24BE1D5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Midpoint (or Improved Polygon)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Euler’s method t predict a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midpoint of th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133720"/>
                <a:ext cx="5257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0A1-22FC-4EE9-A741-74400C0BBD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4114800" cy="6096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480" y="181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5A1-53B1-4EAF-BC85-46F1AD7DBEF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ge-Kutta Methods (R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ge-Kutta methods achieve the accuracy of a Taylor series approach without requiring the calculation of higher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14400" y="3048120"/>
                <a:ext cx="6324480" cy="33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s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988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cremen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p’s and q’s are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62D-8804-4980-9A59-FCF97B712D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recurrence functions. Because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unctional evaluation, this recurrence makes RK methods efficient for computer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types of  RK methods can be devised by employing different number of terms in the increment function as specifi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rder RK metho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fact Euler’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osen,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evaluated by setting general equation equal to terms in a Taylor series expa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90720" y="4952880"/>
                <a:ext cx="4267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8C1-9B3C-4A6A-A60A-127AC37253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o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evaluated by setting the second order equation to Taylor series expansion to the second order term. Three equations to evaluate four unknowns constants are deri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43000" y="1981080"/>
                <a:ext cx="5952960" cy="43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ve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weve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507-57F9-474C-92E7-68938B0B99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function involves one dependent variable, the equation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inary differential equation (or ODE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artial differential equation (or PD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wo or more independent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equations are also classified as to their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irst order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a first derivative as its highest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econd order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a second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order equations can be reduced to a system of first order equations, by redefining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EC7-3A8E-4A07-81C4-5E769B2EDD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                                       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btain                          (3 equations-4 unknow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362320" y="4648320"/>
                <a:ext cx="1008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19520" y="3733920"/>
                <a:ext cx="5410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343400" y="228600"/>
                <a:ext cx="2743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1066680"/>
                <a:ext cx="8001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</m:e>
                        </m:d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19040" y="1990800"/>
                <a:ext cx="71438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 rot="16200000">
            <a:off x="3695400" y="1256760"/>
            <a:ext cx="343080" cy="2781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72360 h 2781360"/>
              <a:gd name="textAreaBottom" fmla="*/ 2709000 h 278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9718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DE5-0BF1-4F60-9D7F-8F32973A75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we can choose an infinite number of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re an infinite number of second-order RK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sion would yield exactly the same results if the solution to ODE were quadratic, linear, or a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y yield different results if the solution is more complicated (typically the c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of the most commonly used method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en Method with a Single Corrector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1/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Midpoint Method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ltson’s Method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2/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965-823B-445F-B027-BB7183DCDB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2481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8C5-F870-4F6F-97A0-B038418377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Es and Engineer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743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PT7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F90-9C4A-4927-80B2-01328AC0BB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38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PT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446-B1F1-4416-ACED-35924A6EF8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ga-Kutta Methods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s devoted to solving ordinary differential equations of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14400" y="2514600"/>
                <a:ext cx="2209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DF6-7EF9-4E6A-9C6B-3728C863F9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79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5640" y="18108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250-50C9-4926-B173-EE64C83C883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rivative provides a direct estimate of the slop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fferential equation evalua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is estimate can be substituted into the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edicted using the slope to extrapolate linearly over the step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1828800"/>
                <a:ext cx="2514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4038480"/>
                <a:ext cx="46479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A1A-5CD3-4512-A9B6-1D38078942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92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98720" y="304920"/>
                <a:ext cx="40827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ar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in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81080" y="1828800"/>
                <a:ext cx="53341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410080" y="327672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FEC-E897-472C-B275-972047EC910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rror Analysis for Euler’s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al solutions of ODEs involves two types of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n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 trunc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agated trunc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the two 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tal or global trun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nd-of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76520" y="3124080"/>
                <a:ext cx="259056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A0E-57FD-4E2C-ACA8-77D0361643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05:38:16Z</dcterms:created>
  <dc:creator>sy</dc:creator>
  <dc:description/>
  <dc:language>en-US</dc:language>
  <cp:lastModifiedBy>baga0122</cp:lastModifiedBy>
  <dcterms:modified xsi:type="dcterms:W3CDTF">2006-06-26T23:51:59Z</dcterms:modified>
  <cp:revision>47</cp:revision>
  <dc:subject/>
  <dc:title>Ordinary Differential Equations</dc:title>
</cp:coreProperties>
</file>