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612-07EB-4193-90E9-2B68B894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10B-D2C9-4F53-9EC3-A214A98D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7E6-F615-41DB-A944-85D01867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8AD-AFE5-4416-B3A4-1871C0A5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F517-0526-43E2-8EDC-AA9DB753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C7C-29F7-4829-B085-05E3CEF9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78D-3FAE-4B18-A491-A65C57BF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115-9430-4B29-BA2C-C3FC6516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726-E14B-417A-B3E3-1DC0A3A3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187-8D42-4E28-B127-DD645D1C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431-1969-4865-9862-837CEFC5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0FD-B01B-4926-B8BF-41735483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F2B1-75C7-4B28-B779-AB00D91A9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10400" y="6597720"/>
            <a:ext cx="47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he McGraw-Hill Companies, Inc. Permission required for reproduction or display.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iffness and Multistep Methods</a:t>
            </a: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Chapter 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areas are cov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iff O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be described - ODEs that have both fast and slow components to their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Implicit sol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chnique and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multistep meth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be descri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398-0CE6-441D-B4DC-0735A5DAFB0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step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orrecto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nd you iterate until a maximum number of iteratios is reac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14400" y="2057400"/>
                <a:ext cx="624852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25FF-276F-4F31-9B48-5DFC2B70AC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tiff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iff 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one involving rapidly changing components together with slowly changing 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individual and systems of ODEs can be stif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(0)=0, the analytical solution is develop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990720" y="3276720"/>
                <a:ext cx="472428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990720" y="5565600"/>
                <a:ext cx="464796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A94-2CBC-420B-8451-1CE462FC0C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igure 26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2E0-274C-4B02-AAFE-E9E93069F0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ght into the step size required for stability of such a solution can be gained by examining the homogeneous part of the 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olution starts at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y(0)=y</a:t>
            </a:r>
            <a:r>
              <a:rPr b="0" i="1" lang="en-US" sz="28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symptotically approaches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762120" y="2133720"/>
                <a:ext cx="2363760" cy="19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200400" y="3657600"/>
            <a:ext cx="3124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505320"/>
            <a:ext cx="236196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F4A-8D6A-4768-A013-BD3CF7F5D98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1532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uler’s method is used to solve the problem numer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bility of this formula depends on the step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914400" y="1828800"/>
                <a:ext cx="52578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914400" y="4876920"/>
                <a:ext cx="548640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e>
                        </m:d>
                        <m:r>
                          <m:t xml:space="preserve">≺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≻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61C-521D-4838-8B94-28C69582620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, for transient part of the equation, the step size must be &lt;2/1000=0.002 to maintain s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this criterion maintains stability, an even smaller step size would be required to obtain an accurate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using explicit approaches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impl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 offer an alternative reme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mplicit form of Euler’s method can be developed by evaluating the derivative at a futur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93A-82F4-4969-8A5D-7ABE436B4EE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85800" y="1828800"/>
                <a:ext cx="2362320" cy="22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h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66680" y="5257800"/>
                <a:ext cx="27432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57200" y="1219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Backw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implici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uler’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1148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roach is called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unconditionally st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Regardless of the step siz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048120" y="399960"/>
                <a:ext cx="107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6371-078D-4C7E-BDDC-FDCD8C7A935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219320" y="304920"/>
                <a:ext cx="388620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3824280" cy="4267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657600" y="1600200"/>
                <a:ext cx="5181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505320" y="3429000"/>
                <a:ext cx="534168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h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BB8-978A-46E5-B9F4-9900F039A80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step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 Non-Self-Starting Heun Method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en method uses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Euler’s meth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predi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trapezoidal ru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corr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or is the weak link in the method because it has the greatest erro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ay to improve Heun’s method is to develop a predictor that has a local error o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(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973080" y="5105520"/>
                <a:ext cx="37670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1E0-AC74-4A6C-9BBD-5085A2DCB0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by Lale Yurttas, Texas A&amp;M Universit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2:10:49Z</dcterms:created>
  <dc:creator>sy</dc:creator>
  <dc:description/>
  <dc:language>en-US</dc:language>
  <cp:lastModifiedBy>baga0122</cp:lastModifiedBy>
  <dcterms:modified xsi:type="dcterms:W3CDTF">2006-06-26T23:51:50Z</dcterms:modified>
  <cp:revision>30</cp:revision>
  <dc:subject/>
  <dc:title>Stiffness and Multistep Methods Chapter 26</dc:title>
</cp:coreProperties>
</file>