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16A-CDCA-47DA-AE29-060E1FC1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5238-9930-4199-B179-C41B4995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48E-11FB-47DE-A5D9-051B918C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BA82-78ED-4F25-B4F3-FDD6E103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7CB9-F0F5-4B1D-9B2E-0D056D7B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74C4-0B5E-47F6-BB58-ACE631E9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BF2-B820-4626-8DF2-83AB5BEE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C2CC-8843-431D-80B2-3A44B670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703-0EBE-49EC-994A-AAD3B44A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BB47-2786-4D76-A97F-C555DA18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3EB-E489-4B9D-B889-9D930DBD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09AB-59A7-4D57-A7B8-D80C85AB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C514-4E5A-4575-8C65-6853B7417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10400" y="6597720"/>
            <a:ext cx="47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Permission required for reproduction or display.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iffness and Multistep Methods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apter 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areas are cove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iff O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be described - ODEs that have both fast and slow components to their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Implicit 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chnique and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multistep meth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be descri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85C-9B5A-4499-A52A-8EF79D700A7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step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rrecto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nd you iterate until a maximum number of iteratios is reach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14400" y="2057400"/>
                <a:ext cx="624852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9A9E-1527-428B-B1F2-FC4F4DF910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tiff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iff 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one involving rapidly changing components together with slowly changing 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individual and systems of ODEs can be stif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(0)=0, the analytical solution is developed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990720" y="3276720"/>
                <a:ext cx="472428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990720" y="5565600"/>
                <a:ext cx="464796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246-7EC6-4D68-89AA-30451E17DE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2438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6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C54-1EFB-4BE7-AEFA-4FCD002A92B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ight into the step size required for stability of such a solution can be gained by examining the homogeneous part of the 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lution starts at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y(0)=y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symptotically approaches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762120" y="2133720"/>
                <a:ext cx="2363760" cy="19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3200400" y="3657600"/>
            <a:ext cx="3124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505320"/>
            <a:ext cx="236196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763-8106-4B93-8FDA-8A028171F3F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1532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uler’s method is used to solve the problem numeric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bility of this formula depends on the step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914400" y="1828800"/>
                <a:ext cx="525780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914400" y="4876920"/>
                <a:ext cx="548640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h</m:t>
                            </m:r>
                          </m:e>
                        </m:d>
                        <m:r>
                          <m:t xml:space="preserve">≺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≻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02F7-D339-46B6-B297-12330E0C3DB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for transient part of the equation, the step size must be &lt;2/1000=0.002 to maintain s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this criterion maintains stability, an even smaller step size would be required to obtain an accurate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using explicit approaches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implic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s offer an alternative reme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mplicit form of Euler’s method can be developed by evaluating the derivative at a futur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F563-6FCD-4319-873A-6A0A1DC0CF0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85800" y="1828800"/>
                <a:ext cx="2362320" cy="22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h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066680" y="5257800"/>
                <a:ext cx="27432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s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57200" y="1219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Backwa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implici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Euler’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41148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roach is called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unconditionally s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Regardless of the step si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048120" y="399960"/>
                <a:ext cx="107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24BC-C84A-4EC8-8E19-8A92EFBD9C1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219320" y="304920"/>
                <a:ext cx="388620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3824280" cy="4267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657600" y="1600200"/>
                <a:ext cx="5181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505320" y="3429000"/>
                <a:ext cx="534168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h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544F-53DE-4A81-B541-4D64EA8D467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step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Non-Self-Starting Heun Method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en method uses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Euler’s 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a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predi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trapezoidal ru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a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corr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or is the weak link in the method because it has the greatest error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way to improve Heun’s method is to develop a predictor that has a local error o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(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973080" y="5105520"/>
                <a:ext cx="37670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2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0C7-CA96-4CEC-8CB3-DC1FBD54D8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02:10:49Z</dcterms:created>
  <dc:creator>sy</dc:creator>
  <dc:description/>
  <dc:language>en-US</dc:language>
  <cp:lastModifiedBy>baga0122</cp:lastModifiedBy>
  <dcterms:modified xsi:type="dcterms:W3CDTF">2006-06-26T23:51:50Z</dcterms:modified>
  <cp:revision>30</cp:revision>
  <dc:subject/>
  <dc:title>Stiffness and Multistep Methods Chapter 26</dc:title>
</cp:coreProperties>
</file>