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4D35-4A5D-4888-B876-F5968946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B63F-CD01-4E35-883E-5C7F6092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D73D-4028-4016-A889-6FB39B50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74BA-1C45-4348-9D67-C0A51DF3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E602-470B-4A88-A633-065E5D3F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A2B7-A255-4F70-8498-981553A8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FB7D-F317-484D-8F80-F8A1C248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5C22-00C3-45B1-B9FE-6A75D37F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9549-FC5C-494B-AA97-60D8579F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3837-4018-49FB-9175-A7D3E66B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41D5-39E2-4036-BC10-79D413B5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3AB1-C7B3-4CCA-BCD3-4BFC85DA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F2A3-9A99-430E-BE0E-A14E6AA90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10400" y="6597720"/>
            <a:ext cx="47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he McGraw-Hill Companies, Inc. Permission required for reproduction or display.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60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undary-Value and Eigenvalue Problems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hapter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DE is accompanied by auxiliary conditions. These conditions are used to evaluate the integral that result during the solution of the equation.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der equation requir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ll conditions are specified at the same value of the independent variable, then we have an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initial-value 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conditions are specified at different values of the independent variable, usually at extreme points or boundaries of a system, then we have a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boundary-value probl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BB9C-9FFA-4936-905D-E97FEE992D8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Finite Differences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alternatives to the shooting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te differences are substituted for the derivatives in the original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te differences equation applies for each of the interior nodes. The first and last interior nodes,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-1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espectively, are specified by the boundary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a linear equation transformed into a set of simultaneous algebraic equations can be solved effici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990720" y="2286000"/>
                <a:ext cx="403848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Δ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Δ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Δ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Δ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54A0-D6E9-4CC2-80C4-FA04A4097AF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diagonal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1280" y="1268280"/>
            <a:ext cx="807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idiagonal system has a bandwidth of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863640" y="1952640"/>
                <a:ext cx="403848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/>
                          </m:mr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395280" y="3968640"/>
            <a:ext cx="838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fficient LU decomposition method,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omas algorith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an be used to solve such an equation. The algorithm consists of three steps: decomposition, forward and back substitution, and has all the advantages of LU decom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F496-9207-4461-BC3B-E2CFD01F3DF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mas algorith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/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 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*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substitution: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 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*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ward substitutio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r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/f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 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/f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447920" y="2438280"/>
                <a:ext cx="3581280" cy="157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f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  <m:e/>
                          </m:mr>
                          <m:mr>
                            <m:e>
                              <m:r>
                                <m:t xml:space="preserve">e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f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/>
                          </m:mr>
                          <m:mr>
                            <m:e/>
                            <m:e>
                              <m:r>
                                <m:t xml:space="preserve">e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f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/>
                            <m:e>
                              <m:r>
                                <m:t xml:space="preserve">e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f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r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r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r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r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2C4B-CDB0-4CBF-A790-51EFBA2FA9F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2133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gure 27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257800" cy="62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E2C7-847B-4353-AEF9-D13726220F3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eral Methods for Boundary-value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gure 27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1664-7A61-446B-A2D3-B41854332E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34880" y="914400"/>
                <a:ext cx="2670120" cy="38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2590920" y="3733920"/>
            <a:ext cx="304560" cy="990360"/>
          </a:xfrm>
          <a:custGeom>
            <a:avLst/>
            <a:gdLst>
              <a:gd name="textAreaLeft" fmla="*/ 0 w 304560"/>
              <a:gd name="textAreaRight" fmla="*/ 109800 w 3045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39625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oundary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57200" y="5638680"/>
                <a:ext cx="5715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2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2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457200" y="5029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nalytical 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28195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(Heat transfer coeffici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A02B-001C-4EE9-A1BA-12760535664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Shooting Method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s the boundary value problem to initial-value problem. A trial-and-error approach is then implemented to solve the initial value appro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der equation can be expressed as two first order O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itial value is guessed, say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z(0)=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lution is then obtained by integrating the two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der ODEs simultaneous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838080" y="3200400"/>
                <a:ext cx="213372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z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04EC-5674-486F-8451-D78A74E25EB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 the RK method shown in cla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33520" y="2743200"/>
                <a:ext cx="7848360" cy="33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09480" y="914400"/>
                <a:ext cx="2362320" cy="16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z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352680" y="914400"/>
                <a:ext cx="320040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ave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8820-8684-4348-A9B4-70719C4DADA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Goal seek- one obt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T(10)=200.  for z(0)=18.116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1EBF-DDC3-4524-9AE3-32E81851492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der RK method with a step size of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T(10)=168.37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differs from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T(10)=2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refore a new guess is made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z(0)=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computation is performed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z(0)=20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T(10)=285.8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two sets of points,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(z, T)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 and (z, T)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linearly related, a linear interpolation formula is used to compute the value of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z(0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12.690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determine the correct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8E0B-AE7B-4067-AA81-6632235F0FF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2133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gure 27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43200" y="0"/>
            <a:ext cx="3581280" cy="62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2BFE-EB82-428C-9E88-78119D92E12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00:54:49Z</dcterms:created>
  <dc:creator>sy</dc:creator>
  <dc:description/>
  <dc:language>en-US</dc:language>
  <cp:lastModifiedBy>baga0122</cp:lastModifiedBy>
  <dcterms:modified xsi:type="dcterms:W3CDTF">2006-06-29T18:43:04Z</dcterms:modified>
  <cp:revision>29</cp:revision>
  <dc:subject/>
  <dc:title>Boundary-Value and Eigenvalue Problems Chapter 27</dc:title>
</cp:coreProperties>
</file>