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E26-BE42-422C-8F2E-525ACEE9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21F-641D-44CA-95C1-4FCA7E41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8DC-8754-40FB-AFE0-44F426AE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AC5-324A-4089-A69B-AA06AEE3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9B9-2163-4A0D-9875-AD698333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591-4C30-4724-ABF9-ECF14F4F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D08-2638-45A7-9740-8F306D78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C11-DB72-4EE3-B658-70DBF103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36C-2FE6-41E3-ACCE-330E2DD5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52E-F077-4711-830C-E2F6430F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3D5-E885-4A27-8F9E-79202C1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68C-8491-46B7-A7FC-C626AE0B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01D-0387-4466-B0E6-89B6A66CC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10400" y="6597720"/>
            <a:ext cx="47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Permission required for reproduction or display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undary-Value and Eigenvalue Problems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apter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DE is accompanied by auxiliary conditions. These conditions are used to evaluate the integral that result during the solution of the equation.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 equation requir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conditions are specified at the same value of the independent variable, then we have a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nitial-value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onditions are specified at different values of the independent variable, usually at extreme points or boundaries of a system, then we have a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oundary-value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812-E68E-495C-A87A-8F5318295A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inite Differences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alternatives to the shooting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differences are substituted for the derivatives in the original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differences equation applies for each of the interior nodes. The first and last interior nodes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-1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spectively, are specified by the boundary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linear equation transformed into a set of simultaneous algebraic equations can be solved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90720" y="2286000"/>
                <a:ext cx="403848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321-FD03-44EF-9CF4-997353CBDB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diagonal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280" y="1268280"/>
            <a:ext cx="807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idiagonal system has a bandwidth of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63640" y="1952640"/>
                <a:ext cx="403848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95280" y="3968640"/>
            <a:ext cx="83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fficient LU decomposition method,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omas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an be used to solve such an equation. The algorithm consists of three steps: decomposition, forward and back substitution, and has all the advantages of LU decom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051-4615-4960-BEA1-A6BB58CE62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mas algorith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*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substitu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*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substitu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r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f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/f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47920" y="2438280"/>
                <a:ext cx="3581280" cy="15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e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f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e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f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t xml:space="preserve">e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f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A70-C43F-4FA9-AB08-DD44C4225E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7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2578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5A8-E93F-4E91-9E2D-C407D90155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 Methods for Boundary-valu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CDE-85EF-4DFF-BA22-3D06F56246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34880" y="914400"/>
                <a:ext cx="2670120" cy="38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590920" y="3733920"/>
            <a:ext cx="304560" cy="990360"/>
          </a:xfrm>
          <a:custGeom>
            <a:avLst/>
            <a:gdLst>
              <a:gd name="textAreaLeft" fmla="*/ 0 w 304560"/>
              <a:gd name="textAreaRight" fmla="*/ 10980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962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5638680"/>
                <a:ext cx="5715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2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2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57200" y="5029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nalytical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2819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(Heat transfer coeffic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278-C2E6-4F59-A71C-3EC80D01B51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Shooting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s the boundary value problem to initial-value problem. A trial-and-error approach is then implemented to solve the initial value appro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equation can be expressed as two first order O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itial value is guessed, say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z(0)=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then obtained by integrating the tw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ODEs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38080" y="3200400"/>
                <a:ext cx="213372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864-88FC-47AE-B5A3-A63F45075C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the RK method shown in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33520" y="2743200"/>
                <a:ext cx="7848360" cy="33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09480" y="914400"/>
                <a:ext cx="23623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z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352680" y="914400"/>
                <a:ext cx="32004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ve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930-2018-4726-9D73-EFD330A8D3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Goal seek- one ob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T(10)=200.  for z(0)=18.116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742-B5DC-4390-B806-DAC9BBE85C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RK method with a step size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(10)=168.37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iffers from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(10)=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refore a new guess is made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z(0)=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computation is performed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z(0)=20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(10)=285.8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two sets of points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z, T)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and (z, T)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inearly related, a linear interpolation formula is used to compute the value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z(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12.69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etermine the correct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936-E978-459A-85C8-AB65954AE5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358128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4C4-3D0B-473C-8D7E-B5CD644442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54:49Z</dcterms:created>
  <dc:creator>sy</dc:creator>
  <dc:description/>
  <dc:language>en-US</dc:language>
  <cp:lastModifiedBy>baga0122</cp:lastModifiedBy>
  <dcterms:modified xsi:type="dcterms:W3CDTF">2006-06-29T18:43:04Z</dcterms:modified>
  <cp:revision>29</cp:revision>
  <dc:subject/>
  <dc:title>Boundary-Value and Eigenvalue Problems Chapter 27</dc:title>
</cp:coreProperties>
</file>