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A7C7-3EFF-4E34-ABD0-A2EF768B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F7E-2C98-4A22-96D2-80362B30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3D7-D633-41FE-B881-D4FACEAE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B469-3F67-4944-B94F-F29E205A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85E0-3C51-4E72-B76F-CC68BDA0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FDC-1B44-4747-9CBD-26122DF2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C93-2A9F-491B-896F-A2965CFF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C402-ADE0-4DA2-9FB5-C6D8789A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48D-C24A-4E01-9864-E1B877A6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2DB0-573D-4063-AAB7-BDC628D7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A32-A310-49F3-895D-DE347AAD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101-093F-4D9C-9EBA-650447BE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CC81-2801-4A11-9112-786447CCF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10400" y="6597720"/>
            <a:ext cx="47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Permission required for reproduction or display.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al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able PT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DB3-B7AA-4FEA-B766-973F41F6713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ite Difference: Elliptic Equations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hapter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lution Techn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iptic equations in engineering are typically used to characterize steady-state, boundary value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numerical solution of elliptic PDEs, the PDE is transformed into an algebraic difference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its simplicity and general relevance to most areas of engineering, we will use a heated plate as an example for solving elliptic P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8F6-1D72-4DE4-8AAD-C2112746C4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221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9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7053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15E-79B0-44EB-93C1-CC1773B2C0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153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Laplacian Difference Equation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09480" y="1295280"/>
                <a:ext cx="4953240" cy="432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Δ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Δ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Δ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Δ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Δx</m:t>
                        </m:r>
                        <m:r>
                          <m:t xml:space="preserve">=</m:t>
                        </m:r>
                        <m:r>
                          <m:t xml:space="preserve">Δy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609480" y="5105520"/>
            <a:ext cx="4343400" cy="5331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5105520"/>
            <a:ext cx="3886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Laplacian differenc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olds for all interior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952520" y="5257440"/>
            <a:ext cx="381240" cy="152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1295280"/>
            <a:ext cx="2438640" cy="838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1676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Laplace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2286000"/>
            <a:ext cx="2133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O[</a:t>
            </a:r>
            <a:r>
              <a:rPr b="0" i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(x)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O[</a:t>
            </a:r>
            <a:r>
              <a:rPr b="0" i="1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(y)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198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9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5534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EF9-07B4-4374-9375-5783AA97C31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, boundary conditions along the edges must be specified to obtain a unique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case is where the temperature at the boundary is set at a fixed value, 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Dirichlet boundary cond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alance for node (1,1)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equations can be developed for other interior points to result a set of simultaneous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14400" y="2819520"/>
                <a:ext cx="3657600" cy="19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C38-EBB2-424E-AC8A-1741366297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33520" y="2133720"/>
                <a:ext cx="8076960" cy="40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/>
                        <m:e/>
                        <m:e/>
                        <m:e/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</m:e>
                        <m:e/>
                        <m:e/>
                        <m:e/>
                        <m:e/>
                        <m:e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</m:e>
                        <m:e/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/>
                        <m:e/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</m:e>
                        <m:e/>
                        <m:e/>
                        <m:e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</m:e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/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</m:e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/>
                        <m:e>
                          <m:r>
                            <m:t xml:space="preserve">0</m:t>
                          </m:r>
                        </m:e>
                      </m:mr>
                      <m:mr>
                        <m:e/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</m:e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/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3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e>
                      </m:mr>
                      <m:mr>
                        <m:e/>
                        <m:e/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</m:e>
                        <m:e/>
                        <m:e/>
                        <m:e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75</m:t>
                          </m:r>
                        </m:e>
                      </m:mr>
                      <m:mr>
                        <m:e/>
                        <m:e/>
                        <m:e/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</m:e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3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e>
                      </m:mr>
                      <m:mr>
                        <m:e/>
                        <m:e/>
                        <m:e/>
                        <m:e/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sub>
                          </m:sSub>
                        </m:e>
                        <m:e/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3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3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5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57200" y="9144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 is a set of nine simultaneous equations with nine unknow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D87F-18C9-45A2-9918-0E76497AA08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20:48:43Z</dcterms:created>
  <dc:creator>sy</dc:creator>
  <dc:description/>
  <dc:language>en-US</dc:language>
  <cp:lastModifiedBy>baga0122</cp:lastModifiedBy>
  <dcterms:modified xsi:type="dcterms:W3CDTF">2006-06-29T18:43:14Z</dcterms:modified>
  <cp:revision>33</cp:revision>
  <dc:subject/>
  <dc:title>Partial Differential Equations</dc:title>
</cp:coreProperties>
</file>