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B08-5578-4898-AA1B-3ED44B89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221-EA66-4C6A-B5DA-8DA188D6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818-17BA-4694-A8A4-73DD0DB7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EBA-3FEE-4E1D-B37C-BAE073FF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371-F03E-4F9A-9AB9-2CAEA3A7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E05-F2A5-47CC-8A1A-2F92BE0C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42D-3C3F-4EEF-ABDE-E1CDCA3D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6EB-057A-4A9C-ADEA-C103626C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468-F708-438C-AE2C-9D1A9EB0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B03-259B-4A35-948B-A48FFCD4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859-4762-4B48-8ABB-C45604F2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E70-8932-4A0E-90C1-DE3B21F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D810-F11D-4814-A815-9B6AEEA19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10400" y="6597720"/>
            <a:ext cx="47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Permission required for reproduction or display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able PT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422-5F3B-4DB5-B1B8-D267BAE2DD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ite Difference: Elliptic Equations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apter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ution Tech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iptic equations in engineering are typically used to characterize steady-state, boundary valu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umerical solution of elliptic PDEs, the PDE is transformed into an algebraic differenc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its simplicity and general relevance to most areas of engineering, we will use a heated plate as an example for solving elliptic P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18F-BD9D-49F0-95DA-1CCE61204B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221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9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6A4-A08F-40E5-9BE1-D0A1A36BCE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153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Laplacian Difference Equatio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09480" y="1295280"/>
                <a:ext cx="4953240" cy="432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Δ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Δ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Δ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Δ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x</m:t>
                        </m:r>
                        <m:r>
                          <m:t xml:space="preserve">=</m:t>
                        </m:r>
                        <m:r>
                          <m:t xml:space="preserve">Δy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09480" y="5105520"/>
            <a:ext cx="4343400" cy="533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105520"/>
            <a:ext cx="3886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Laplacian differenc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olds for all interio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952520" y="5257440"/>
            <a:ext cx="38124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295280"/>
            <a:ext cx="2438640" cy="838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16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Laplace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2286000"/>
            <a:ext cx="2133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O[</a:t>
            </a:r>
            <a:r>
              <a:rPr b="0" i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(x)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O[</a:t>
            </a:r>
            <a:r>
              <a:rPr b="0" i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(y)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198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9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5534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C3C-C73B-4CD7-BAFC-31DE55C65C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, boundary conditions along the edges must be specified to obtain a uniqu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case is where the temperature at the boundary is set at a fixed value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irichlet boundary 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alance for node (1,1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equations can be developed for other interior points to result a set of simultaneous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2819520"/>
                <a:ext cx="3657600" cy="19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B65-8F20-404A-A3FC-19E1AD9B3D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33520" y="2133720"/>
                <a:ext cx="8076960" cy="40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/>
                        <m:e/>
                        <m:e/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/>
                        <m:e/>
                        <m:e/>
                        <m:e/>
                        <m:e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/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mr>
                      <m:mr>
                        <m:e/>
                        <m:e/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75</m:t>
                          </m:r>
                        </m:e>
                      </m:mr>
                      <m:mr>
                        <m:e/>
                        <m:e/>
                        <m:e/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e>
                      </m:mr>
                      <m:mr>
                        <m:e/>
                        <m:e/>
                        <m:e/>
                        <m:e/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57200" y="9144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 is a set of nine simultaneous equations with nine unknow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90D-4D42-4FC8-A36E-9F6495980CE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20:48:43Z</dcterms:created>
  <dc:creator>sy</dc:creator>
  <dc:description/>
  <dc:language>en-US</dc:language>
  <cp:lastModifiedBy>baga0122</cp:lastModifiedBy>
  <dcterms:modified xsi:type="dcterms:W3CDTF">2006-06-29T18:43:14Z</dcterms:modified>
  <cp:revision>33</cp:revision>
  <dc:subject/>
  <dc:title>Partial Differential Equations</dc:title>
</cp:coreProperties>
</file>