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96C2-22FA-4630-AEA5-AB54FB80F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42E8-72CF-4B35-9381-A5231B23F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000E-2439-4C07-A0F0-2164D67DD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E948-B81D-46A5-B451-536B76122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1444-FF70-4EE7-80EC-AC538A927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6E46-525B-45C8-A083-8C915CE74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F445-6C55-4458-A6A7-848DDCD89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7015-788F-4E3E-8F25-F2388A09A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FC2B-5CF0-4CAD-9D78-0DF3BC44C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3A40-38D6-4333-A11B-8960FEDCD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9EB1-AC51-4681-B26F-4D90F1CDD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D106-7260-4210-9042-F710FDAA9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E01F3-FF77-4EAC-9F54-04EEA7C0F8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66900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opyright © 2006 The McGraw-Hill Companies, Inc.  Permission required for reproduction or display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ite Difference: Parabolic Equations</a:t>
            </a:r>
            <a:br>
              <a:rPr sz="4000"/>
            </a:b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hapter 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bolic equations are employed to characterize time-variable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steady-sta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probl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ervation of energy can  be used to develop 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steady-sta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nergy balance for the differential element in a long, thin insulated r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3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A2F5-9AD5-4C0A-A6F2-83F7F32944A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29718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07440" y="1298520"/>
            <a:ext cx="17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igure 30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3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59E9-2D06-4E6F-9969-C14BF24244D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ergy balance together with Fourier’s law of heat conduction yields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heat-conduction equ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st as elliptic PDEs, parabolic equations can be solved by substituting finite divided differences for the partial derivati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contrast to elliptic PDEs, we must now consider changes in time as well as in sp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bolic PDEs are temporally open-ended and involve new issues such as stabi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914400" y="1752480"/>
                <a:ext cx="1905120" cy="104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T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3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D83A-6CD7-4DA3-8005-B2A229A6C75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2286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Figure 30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6934320" cy="556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3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8D95-5BFE-443B-BE4D-B8DDE8CB0DA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licit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heat conduction equation requires approximations for the second derivative in space and the first derivative in ti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990720" y="3276720"/>
                <a:ext cx="4800600" cy="31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l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l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l</m:t>
                                </m:r>
                              </m:sup>
                            </m:sSubSup>
                          </m:num>
                          <m:den>
                            <m:sSup>
                              <m:e>
                                <m:r>
                                  <m:t xml:space="preserve">Δ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l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l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</m:e>
                      <m:e>
                        <m:r>
                          <m:t xml:space="preserve">k</m:t>
                        </m:r>
                        <m:f>
                          <m:num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l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l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l</m:t>
                                </m:r>
                              </m:sup>
                            </m:sSubSup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Δx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l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l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</m:e>
                      <m:e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l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l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λ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l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l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l</m:t>
                                </m:r>
                              </m:sup>
                            </m:sSubSup>
                          </m:e>
                        </m:d>
                        <m:r>
                          <m:t xml:space="preserve"> 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kΔt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Δx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3" name=""/>
          <p:cNvSpPr/>
          <p:nvPr/>
        </p:nvSpPr>
        <p:spPr>
          <a:xfrm>
            <a:off x="990720" y="5791320"/>
            <a:ext cx="3352680" cy="533160"/>
          </a:xfrm>
          <a:prstGeom prst="rect">
            <a:avLst/>
          </a:pr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3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1797-D116-4783-92C5-F5033705796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equation can be written for all interior nodes on the r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provides an explicit means to compute values at each node for a future time based on the present values at the node and its neighb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3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D80C-8091-4EC2-A170-3B4D2C35414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7924680" cy="5715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55160" y="0"/>
            <a:ext cx="17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igure 30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3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FE47-EFE6-4193-AE30-2ACAB35E45FF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imple Implicit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icit methods overcome difficulties associated with explicit methods at the expense of somewhat more complicated algorith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implicit methods, the spatial derivative is approximated at an advanced time interv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+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is second-order accur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6610320" y="258444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914400" y="4280040"/>
                <a:ext cx="335268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T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≃</m:t>
                    </m:r>
                    <m:f>
                      <m:num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l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−</m:t>
                        </m:r>
                        <m:r>
                          <m:t xml:space="preserve">2</m:t>
                        </m:r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l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l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Δx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3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7ABF-C88B-471F-A52A-F9B7CCA2882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2419200" y="375444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1143000" y="304920"/>
                <a:ext cx="5076720" cy="525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k</m:t>
                        </m:r>
                        <m:f>
                          <m:num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l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l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l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bSup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Δx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l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l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</m:e>
                      <m:e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λT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l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λ</m:t>
                            </m:r>
                          </m:e>
                        </m:d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l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λT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l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l</m:t>
                            </m:r>
                          </m:sup>
                        </m:sSubSup>
                      </m:e>
                      <m:e/>
                      <m:e/>
                      <m:e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l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l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λ</m:t>
                            </m:r>
                          </m:e>
                        </m:d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l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λ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l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l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l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λ</m:t>
                            </m:r>
                          </m:e>
                        </m:d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l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λT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l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l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l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1143000" y="2286000"/>
            <a:ext cx="5486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eqn. applies to all but the first and the last interior nodes, which must be modified to reflect the boundary condi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562720"/>
            <a:ext cx="5029200" cy="703800"/>
          </a:xfrm>
          <a:prstGeom prst="rect">
            <a:avLst/>
          </a:prstGeom>
          <a:solidFill>
            <a:srgbClr val="f595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ing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nknowns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linear algebraic equ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3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DC82-9DAD-44B4-83A2-CC455B2C8189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9T04:02:08Z</dcterms:created>
  <dc:creator>sy</dc:creator>
  <dc:description/>
  <dc:language>en-US</dc:language>
  <cp:lastModifiedBy>baga0122</cp:lastModifiedBy>
  <dcterms:modified xsi:type="dcterms:W3CDTF">2006-06-29T18:43:09Z</dcterms:modified>
  <cp:revision>26</cp:revision>
  <dc:subject/>
  <dc:title>Finite Difference: Parabolic Equations Chapter 30</dc:title>
</cp:coreProperties>
</file>