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C58-1BE7-4D99-BBC5-8BB0C7D4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37D-61C4-4C56-8BC0-C225DC9D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463-88F9-4293-8F9B-9E260A4C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9E5-5EE5-4F33-9D53-AC2FCC43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A7C-DE56-4BD7-A7C2-02565F9E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771-EE10-40D1-962C-0BB4A89F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D23-BC9D-4D1F-A175-70EF0EA0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400-8BDE-4161-A02B-956684EA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54A-3130-4AAA-BB71-3D9A2B86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908-6BC8-483B-BDDB-80DB5237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E39-03F7-481B-B61D-01714E17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0D0-3811-4FA2-84A2-D3ACED9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3781-10C8-458E-86FA-53497BB33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ite Difference: Parabolic Equations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apter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bolic equations are employed to characterize time-variabl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steady-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energy can  be used to develop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steady-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ergy balance for the differential element in a long, thin insulated 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470-0764-4A33-9B87-063DE29120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7440" y="12985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gure 3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97B-EF38-409C-92A8-675A8039E3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balance together with Fourier’s law of heat conduction yields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heat-conduction eq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as elliptic PDEs, parabolic equations can be solved by substituting finite divided differences for the partial deriv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 to elliptic PDEs, we must now consider changes in time as well as in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bolic PDEs are temporally open-ended and involve new issues such as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14400" y="1752480"/>
                <a:ext cx="19051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B03-6E7F-4FD0-A18C-2BE611034C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2286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3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9343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E2A-8E37-49E1-8467-D3BBF64A12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t conduction equation requires approximations for the second derivative in space and the first derivative in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90720" y="3276720"/>
                <a:ext cx="4800600" cy="31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λ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e>
                        </m:d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Δt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990720" y="5791320"/>
            <a:ext cx="3352680" cy="5331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F5A-C2C4-457F-AA6F-B9DBA5196B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quation can be written for all interior nodes on the 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ovides an explicit means to compute values at each node for a future time based on the present values at the node and its neighb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1F3-7E14-4C44-AB6F-C9C5E09FD7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92468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5160" y="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gure 3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F24-151D-471D-B442-5DF6E4B8A1D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mple Implicit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methods overcome difficulties associated with explicit methods at the expense of somewhat more complicated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mplicit methods, the spatial derivative is approximated at an advanced time 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second-order accu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14400" y="4280040"/>
                <a:ext cx="33526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536-0AFE-40CF-BF60-5F89731FA6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43000" y="304920"/>
                <a:ext cx="5076720" cy="525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λ</m:t>
                            </m:r>
                          </m:e>
                        </m:d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</m:e>
                      <m:e/>
                      <m:e/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λ</m:t>
                            </m:r>
                          </m:e>
                        </m:d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λ</m:t>
                            </m:r>
                          </m:e>
                        </m:d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143000" y="228600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qn. applies to all but the first and the last interior nodes, which must be modified to reflect the boundary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562720"/>
            <a:ext cx="5029200" cy="703800"/>
          </a:xfrm>
          <a:prstGeom prst="rect">
            <a:avLst/>
          </a:prstGeom>
          <a:solidFill>
            <a:srgbClr val="f595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known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near algebra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103-A121-4D36-8DC4-9EB149A8DB3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4:02:08Z</dcterms:created>
  <dc:creator>sy</dc:creator>
  <dc:description/>
  <dc:language>en-US</dc:language>
  <cp:lastModifiedBy>baga0122</cp:lastModifiedBy>
  <dcterms:modified xsi:type="dcterms:W3CDTF">2006-06-29T18:43:09Z</dcterms:modified>
  <cp:revision>26</cp:revision>
  <dc:subject/>
  <dc:title>Finite Difference: Parabolic Equations Chapter 30</dc:title>
</cp:coreProperties>
</file>