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1C2-F6BB-41A8-B550-7714F49D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00A-FFE3-4C0B-A5E9-28312C6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6C3-144C-4791-8DE9-29598911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B73-C865-4613-9146-D053FE0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754-8A8F-4FC7-B13B-A0CC35A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720" y="7308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228-6CEC-4899-8652-F5EB87A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1A6-7EF9-4838-AA5C-D59B0CA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27F-6F6C-49FD-8161-49C24F0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1C2-10BF-41BD-9826-C9A49F5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98E-0EB7-4D8E-A561-E9C31D3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D45-7E43-4E91-BD63-7F018B6E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F64-F3BA-4F7D-A328-65621DA7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720" y="7308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076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 The McGraw-Hill Companies, Inc. Permission required for reproduction or display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1120" y="6010200"/>
            <a:ext cx="769680" cy="771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ACA-696D-4A78-9296-37911D62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9528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runcation Errors and the Taylor S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we have a function f(x) that is dependent on a single independent variable x. fl(x) is an approximation of x and we would like to estimate the effect of discrepancy between x and fl(x) on the value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87320" y="3068640"/>
                <a:ext cx="749628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th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un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mploy Taylor series to compute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near 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dropp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cond and higher order term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91440" cy="650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4.5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 formula for more than one variable…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225000"/>
            <a:ext cx="8255160" cy="63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ssociated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ields the following 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34920" y="3897360"/>
                <a:ext cx="73454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31640" y="4976640"/>
            <a:ext cx="82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error could result from addition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lmost equal magnitude but opposite sign, therefore one should avoid subtracting nearly equ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11044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ssociated error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0000" y="2023920"/>
                <a:ext cx="7561440" cy="24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1: example 4.6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7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6360" y="728640"/>
                <a:ext cx="79563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39640" y="2816280"/>
            <a:ext cx="755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ep 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efine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537000"/>
                <a:ext cx="3564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4905360"/>
            <a:ext cx="8064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term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ccounts for all terms from (n+1) to infi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0200" y="100080"/>
            <a:ext cx="79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20" y="546120"/>
            <a:ext cx="91044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28280"/>
            <a:ext cx="8229600" cy="53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s not known exactly, lies somewhere between x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&gt;x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to determine f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),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o do this you need 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we knew f(x), there wouldn’t be any need to perform the Taylor series expans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wever, R=O(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, (n+1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rder, the order of truncation error is 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(h), halving the step size will halve the err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, halving the step size will quarter the err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82680"/>
            <a:ext cx="8405640" cy="646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0760"/>
            <a:ext cx="8164440" cy="6530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.5.  Determine truncation errors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30560" y="304920"/>
            <a:ext cx="301608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87- Example 4.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.5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4:27:37Z</dcterms:created>
  <dc:creator>McGraw-Hill Higher Education</dc:creator>
  <dc:description/>
  <dc:language>en-US</dc:language>
  <cp:lastModifiedBy>baga0122</cp:lastModifiedBy>
  <dcterms:modified xsi:type="dcterms:W3CDTF">2006-06-06T19:55:37Z</dcterms:modified>
  <cp:revision>21</cp:revision>
  <dc:subject/>
  <dc:title>PowerPoint Presentation</dc:title>
</cp:coreProperties>
</file>