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B7-7B1D-4904-BF71-D5C46849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C2C-4CD8-46E8-BCD5-60A6F756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CC6-1923-4206-A449-D42C276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4E8-39BB-4210-97CA-2D06D8DB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A78-8CB9-42D9-AA55-9C8E5980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2720" y="7308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18F-3FEF-43AA-9F27-ECED13B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D26-CDE2-40C9-BA86-D48EEA0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B5F4-55CD-431D-830E-DF0C39CD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701-4726-4C0C-8A97-A5C6C9CA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AAC-CDFE-408C-9D5A-892A834F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C50-2188-4D62-B0EE-D85D1422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B32-C92B-4CF9-9AF2-EDA86410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2720" y="7308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076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© The McGraw-Hill Companies, Inc. Permission required for reproduction or display.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1120" y="6010200"/>
            <a:ext cx="769680" cy="771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5201-6778-4EBC-BC87-A1088B2D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95280"/>
            <a:ext cx="914400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904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Truncation Errors and the Taylor S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1844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we have a function f(x) that is dependent on a single independent variable x. fl(x) is an approximation of x and we would like to estimate the effect of discrepancy between x and fl(x) on the value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87320" y="3068640"/>
                <a:ext cx="749628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l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oth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unknow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mploy Taylor series to compute 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near 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, dropp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econd and higher order terms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91440" cy="650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4.5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rive formula for more than one variable…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225000"/>
            <a:ext cx="8255160" cy="632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ssociated error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yields the following 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fl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934920" y="3897360"/>
                <a:ext cx="734544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431640" y="4976640"/>
            <a:ext cx="82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arge error could result from addition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almost equal magnitude but opposite sign, therefore one should avoid subtracting nearly equ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11044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ation o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ssociated errors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sult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00000" y="2023920"/>
                <a:ext cx="7561440" cy="24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1: example 4.6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7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-15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76360" y="728640"/>
                <a:ext cx="79563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≃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39640" y="2816280"/>
            <a:ext cx="7559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ep 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efine fi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537000"/>
                <a:ext cx="356400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4905360"/>
            <a:ext cx="8064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nder term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ccounts for all terms from (n+1) to infin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0200" y="100080"/>
            <a:ext cx="79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20" y="546120"/>
            <a:ext cx="91044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28280"/>
            <a:ext cx="8229600" cy="539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s not known exactly, lies somewhere between x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1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&gt;x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eed to determine f 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),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o do this you need f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x)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f we knew f(x), there wouldn’t be any need to perform the Taylor series expansion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wever, R=O(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, (n+1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order, the order of truncation error is 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(h), halving the step size will halve the err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, halving the step size will quarter the error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382680"/>
            <a:ext cx="8405640" cy="646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20760"/>
            <a:ext cx="8164440" cy="6530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9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.5.  Determine truncation errors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720" y="7308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 4.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30560" y="304920"/>
            <a:ext cx="3016080" cy="65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87- Example 4.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4.5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2T14:27:37Z</dcterms:created>
  <dc:creator>McGraw-Hill Higher Education</dc:creator>
  <dc:description/>
  <dc:language>en-US</dc:language>
  <cp:lastModifiedBy>baga0122</cp:lastModifiedBy>
  <dcterms:modified xsi:type="dcterms:W3CDTF">2006-06-06T19:55:37Z</dcterms:modified>
  <cp:revision>21</cp:revision>
  <dc:subject/>
  <dc:title>PowerPoint Presentation</dc:title>
</cp:coreProperties>
</file>